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F87D-2D17-4368-87DF-CD033A33961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F6E1-634D-4222-BFF8-22067D55120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ло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ь расположена в зоне смешанных лесов. Преобладают зональные широколиственно-еловые леса в моренных ландшафтах (на Клинско-Дмитровской гряде, на Гороховецком отроге), сосновые леса в Мещёрской низменности, в Заклязьменском бору и на Окско-Цнинском валу, широколиственные леса в Ополье и на склонах коренных берегов Оки и Клязь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им сырьевым запасом и природным богатством Владимирской области являются леса, которые покрывают 1520,9 тыс. га (42 % территории региона). Запасы древесины — 209 млн м³, в том числе хвойных пород — 137,5 млн м³. Расчетная лесосека области используется на 90 %, ежегодно вырубается около 9 тыс. га леса для промышленных ц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EE3A-4921-4535-BCC6-FA58CDBCDC6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ата и славится своей растительностью увлажнённая Мещёра, здесь собирают малину, землянику, смородину, особенно много черники, брусники, калины и клюквы, многочисленные грибы и лекарственные растения (багульник болотный, хвощ полевой, тысячелистник обыкновенный, зверобой, мята, крапива, ландыш и др.). Разнообразные типы водорослей, мхов, лишайник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лора области насчитывает свыше 1300 видов сосудистых растений, около 200 видов мохообразных. В Красную книгу России из видов, обитающих в области, занесены венерин башмачок (Cypripedium calceolus), пыльцеголовник красный (Cephalanthera rubra), пальцекорник балтийский (Dactylorhiza baltica), пальцекорник Траунштейнера (Dactylorhiza traunsteineri),надбородник безлистный (Epipogium aphyllum), липарис Лёзеля (Liparis loeselii), неоттианте клобучковая (Neottianthe cucullata), ятрышник шлемоносный (Orchis militaris), ятрышник обожженный (Orchis ustulata)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E087-8B44-4DDD-94B8-C828CE2C338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у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временной фауне насчитывается более 50 видов млекопитающих, среди которых: лось, кабан, косуля, благородный и пятнистый олень, рысь, волк, белка, заяц, куница, лисица, хорёк, барсук и другие пушные звери (охота открыта с октября по февраль), 5 видов пресмыкающихся и 10 видов земноводных. В красную книгу РФ внесена русская выхухо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территории области обитает 216 видов птиц, среди которых: глухарь, тетерев, рябчик, серая куропатка, вальдшнеп, гусь, утка и др. Перелётом проходит внесённый в Красную книгу РФ гусь-пискулька.</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промысловых охотничьих животных охота по лицензиям и разрешениям открыта в следующие срок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сь, кабан, благородный олень, пятнистый олень (середина ноября — середина январ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яц (октябрь — январ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ота на глухаря, тетерева, вальдшнепа, селезня и гуся разрешена в течение 10 дней в апре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доёмы региона также богаты речной и озёрной рыбой многочисленных видов (вьюн, плотва, щука, окунь, карась, краснопёрка, в Клязьме встречается стерлядь), рыбалказимний (подлёдная рыбалка) период. Действует несколько охотничьих хозяйств.</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41B0-1871-4977-B9F4-13EE4FAC7A0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рана природ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логическая ситуация в области в целом благоприятна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юге области на территории Гусь-Хрустального района выделена территория под Национальный парк «Мещёра», памятник природы — озеро Исихра, часть федерального заказника «Клязьминский» (северо-восток Ковровского района), сохраняющего выхухоль и в целом природный комплекс поймы Клязьмы, федеральный заказник «Муромский» в пойме Оки, площадью 56 200 га, охраняющий выхухоль и охотничьих животных региона, а также памятник природы озеро Виша. Создана и ведётся красная книга Владимирской обла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очагов загрязнения можно выделить промышленные центры региона — города Владимир, Ковров, Муром; периодические пожары и нарушение экосистем в осушённых торфяных болотах юго—запада и территории активного животновод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5EEF-C112-4320-BDD1-CC0333327CC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регион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йденные стоянки человека верхнего палеолита (ок. 25 тыс. лет до н. э.) «Сунгирь» говорят о заселённости владимирской земли с древнейших времен. Археологические раскопки Мурома и других поселений рассказывают нам о финно-угорских корнях этих земель. Нагляднейшие памятники истории — сохранившиеся города напоминают о древне-русской средневековой истории — пике культурного развития этих мест, а подробные документы, об истории последних столетий (Владимирская губерния, Владимирский трак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0F75-D046-40A1-B60E-6126CE80C2D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гра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ден Ленина (2 февраля 1967) — за выдающиеся заслуги в развитии народного хозяйства и культу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1F74-02E6-4F2E-85EA-39ED78924CF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 1430,0 тыс. человек (на январь 2010) (1449,5 — 2008; 1472,6 — 2006; 1487,2 — 2005)</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тность населения: 49,3 чел./км² (на январь 2010)</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ельный вес городского населения: 77,8 % (на январь 2008) (77,5 % — (2006) 78,5 % — (2005))</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и субъектов федерации Центрального федерального округа занимает 2-е место после Московской области по числу городов с населением более 100 тысяч жителей, имея 3 таких города: Владимир, Ковров, Му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C11DA-C28A-4779-9B6D-A46D13B0349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од</a:t>
            </a:r>
            <a:r>
              <a:rPr b="0" lang="ru-RU" sz="1200" spc="-1" strike="noStrike">
                <a:solidFill>
                  <a:srgbClr val="000000"/>
                </a:solidFill>
                <a:latin typeface="Calibri"/>
              </a:rPr>
              <a:t>	</a:t>
            </a:r>
            <a:r>
              <a:rPr b="0" lang="ru-RU" sz="1200" spc="-1" strike="noStrike">
                <a:solidFill>
                  <a:srgbClr val="000000"/>
                </a:solidFill>
                <a:latin typeface="Calibri"/>
              </a:rPr>
              <a:t>Численность в 2002 году, челове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сские</a:t>
            </a:r>
            <a:r>
              <a:rPr b="0" lang="ru-RU" sz="1200" spc="-1" strike="noStrike">
                <a:solidFill>
                  <a:srgbClr val="000000"/>
                </a:solidFill>
                <a:latin typeface="Calibri"/>
              </a:rPr>
              <a:t>	</a:t>
            </a:r>
            <a:r>
              <a:rPr b="0" lang="ru-RU" sz="1200" spc="-1" strike="noStrike">
                <a:solidFill>
                  <a:srgbClr val="000000"/>
                </a:solidFill>
                <a:latin typeface="Calibri"/>
              </a:rPr>
              <a:t>            144385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краинцы</a:t>
            </a:r>
            <a:r>
              <a:rPr b="0" lang="ru-RU" sz="1200" spc="-1" strike="noStrike">
                <a:solidFill>
                  <a:srgbClr val="000000"/>
                </a:solidFill>
                <a:latin typeface="Calibri"/>
              </a:rPr>
              <a:t>	</a:t>
            </a:r>
            <a:r>
              <a:rPr b="0" lang="ru-RU" sz="1200" spc="-1" strike="noStrike">
                <a:solidFill>
                  <a:srgbClr val="000000"/>
                </a:solidFill>
                <a:latin typeface="Calibri"/>
              </a:rPr>
              <a:t>            1675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тары</a:t>
            </a:r>
            <a:r>
              <a:rPr b="0" lang="ru-RU" sz="1200" spc="-1" strike="noStrike">
                <a:solidFill>
                  <a:srgbClr val="000000"/>
                </a:solidFill>
                <a:latin typeface="Calibri"/>
              </a:rPr>
              <a:t>	</a:t>
            </a:r>
            <a:r>
              <a:rPr b="0" lang="ru-RU" sz="1200" spc="-1" strike="noStrike">
                <a:solidFill>
                  <a:srgbClr val="000000"/>
                </a:solidFill>
                <a:latin typeface="Calibri"/>
              </a:rPr>
              <a:t>             867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лорусы</a:t>
            </a:r>
            <a:r>
              <a:rPr b="0" lang="ru-RU" sz="1200" spc="-1" strike="noStrike">
                <a:solidFill>
                  <a:srgbClr val="000000"/>
                </a:solidFill>
                <a:latin typeface="Calibri"/>
              </a:rPr>
              <a:t>	</a:t>
            </a:r>
            <a:r>
              <a:rPr b="0" lang="ru-RU" sz="1200" spc="-1" strike="noStrike">
                <a:solidFill>
                  <a:srgbClr val="000000"/>
                </a:solidFill>
                <a:latin typeface="Calibri"/>
              </a:rPr>
              <a:t>             5682</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рмяне</a:t>
            </a:r>
            <a:r>
              <a:rPr b="0" lang="ru-RU" sz="1200" spc="-1" strike="noStrike">
                <a:solidFill>
                  <a:srgbClr val="000000"/>
                </a:solidFill>
                <a:latin typeface="Calibri"/>
              </a:rPr>
              <a:t>	</a:t>
            </a:r>
            <a:r>
              <a:rPr b="0" lang="ru-RU" sz="1200" spc="-1" strike="noStrike">
                <a:solidFill>
                  <a:srgbClr val="000000"/>
                </a:solidFill>
                <a:latin typeface="Calibri"/>
              </a:rPr>
              <a:t>             499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рдва</a:t>
            </a:r>
            <a:r>
              <a:rPr b="0" lang="ru-RU" sz="1200" spc="-1" strike="noStrike">
                <a:solidFill>
                  <a:srgbClr val="000000"/>
                </a:solidFill>
                <a:latin typeface="Calibri"/>
              </a:rPr>
              <a:t>	</a:t>
            </a:r>
            <a:r>
              <a:rPr b="0" lang="ru-RU" sz="1200" spc="-1" strike="noStrike">
                <a:solidFill>
                  <a:srgbClr val="000000"/>
                </a:solidFill>
                <a:latin typeface="Calibri"/>
              </a:rPr>
              <a:t>             357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зербайджанцы</a:t>
            </a:r>
            <a:r>
              <a:rPr b="0" lang="ru-RU" sz="1200" spc="-1" strike="noStrike">
                <a:solidFill>
                  <a:srgbClr val="000000"/>
                </a:solidFill>
                <a:latin typeface="Calibri"/>
              </a:rPr>
              <a:t>	</a:t>
            </a:r>
            <a:r>
              <a:rPr b="0" lang="ru-RU" sz="1200" spc="-1" strike="noStrike">
                <a:solidFill>
                  <a:srgbClr val="000000"/>
                </a:solidFill>
                <a:latin typeface="Calibri"/>
              </a:rPr>
              <a:t>309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аши</a:t>
            </a:r>
            <a:r>
              <a:rPr b="0" lang="ru-RU" sz="1200" spc="-1" strike="noStrike">
                <a:solidFill>
                  <a:srgbClr val="000000"/>
                </a:solidFill>
                <a:latin typeface="Calibri"/>
              </a:rPr>
              <a:t>	</a:t>
            </a:r>
            <a:r>
              <a:rPr b="0" lang="ru-RU" sz="1200" spc="-1" strike="noStrike">
                <a:solidFill>
                  <a:srgbClr val="000000"/>
                </a:solidFill>
                <a:latin typeface="Calibri"/>
              </a:rPr>
              <a:t>             2334</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ыгане</a:t>
            </a:r>
            <a:r>
              <a:rPr b="0" lang="ru-RU" sz="1200" spc="-1" strike="noStrike">
                <a:solidFill>
                  <a:srgbClr val="000000"/>
                </a:solidFill>
                <a:latin typeface="Calibri"/>
              </a:rPr>
              <a:t>	</a:t>
            </a:r>
            <a:r>
              <a:rPr b="0" lang="ru-RU" sz="1200" spc="-1" strike="noStrike">
                <a:solidFill>
                  <a:srgbClr val="000000"/>
                </a:solidFill>
                <a:latin typeface="Calibri"/>
              </a:rPr>
              <a:t>             225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лдаване</a:t>
            </a:r>
            <a:r>
              <a:rPr b="0" lang="ru-RU" sz="1200" spc="-1" strike="noStrike">
                <a:solidFill>
                  <a:srgbClr val="000000"/>
                </a:solidFill>
                <a:latin typeface="Calibri"/>
              </a:rPr>
              <a:t>	</a:t>
            </a:r>
            <a:r>
              <a:rPr b="0" lang="ru-RU" sz="1200" spc="-1" strike="noStrike">
                <a:solidFill>
                  <a:srgbClr val="000000"/>
                </a:solidFill>
                <a:latin typeface="Calibri"/>
              </a:rPr>
              <a:t>             207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цы</a:t>
            </a:r>
            <a:r>
              <a:rPr b="0" lang="ru-RU" sz="1200" spc="-1" strike="noStrike">
                <a:solidFill>
                  <a:srgbClr val="000000"/>
                </a:solidFill>
                <a:latin typeface="Calibri"/>
              </a:rPr>
              <a:t>	</a:t>
            </a:r>
            <a:r>
              <a:rPr b="0" lang="ru-RU" sz="1200" spc="-1" strike="noStrike">
                <a:solidFill>
                  <a:srgbClr val="000000"/>
                </a:solidFill>
                <a:latin typeface="Calibri"/>
              </a:rPr>
              <a:t>             143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зины</a:t>
            </a:r>
            <a:r>
              <a:rPr b="0" lang="ru-RU" sz="1200" spc="-1" strike="noStrike">
                <a:solidFill>
                  <a:srgbClr val="000000"/>
                </a:solidFill>
                <a:latin typeface="Calibri"/>
              </a:rPr>
              <a:t>	</a:t>
            </a:r>
            <a:r>
              <a:rPr b="0" lang="ru-RU" sz="1200" spc="-1" strike="noStrike">
                <a:solidFill>
                  <a:srgbClr val="000000"/>
                </a:solidFill>
                <a:latin typeface="Calibri"/>
              </a:rPr>
              <a:t>             1044</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ийцы</a:t>
            </a:r>
            <a:r>
              <a:rPr b="0" lang="ru-RU" sz="1200" spc="-1" strike="noStrike">
                <a:solidFill>
                  <a:srgbClr val="000000"/>
                </a:solidFill>
                <a:latin typeface="Calibri"/>
              </a:rPr>
              <a:t>	</a:t>
            </a:r>
            <a:r>
              <a:rPr b="0" lang="ru-RU" sz="1200" spc="-1" strike="noStrike">
                <a:solidFill>
                  <a:srgbClr val="000000"/>
                </a:solidFill>
                <a:latin typeface="Calibri"/>
              </a:rPr>
              <a:t>             10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ны народы c численностью более 1000 челове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4EE80-6FEA-455D-ABD8-AB2E980352D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дминистративно-территориальное устройство и местное самоуправление</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ая статья: Административно-территориальное деление Владимирской област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2006 года на территории Владимирской области существуют 125 муниципальных образований, в том числе 5 городских округов, 16 муниципальных районов, 26 городских поселений, 80 сельских посел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39D8C-C17D-430F-B201-6DDB70C22A9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 субъект Российской Федерации, входит в Центральный федеральный окру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аничит с Московской, Ярославской, Ивановской, Рязанской и Нижегородской област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щадь — 29 000 км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 — 1430,0 тыс. человек (на январь 20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ой центр — город Владимир, расстояние от Владимира до Москвы — 154 к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тояние от МКАД до границы области (М7) — 79 к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зована — 14 августа 1944 года на территории существовавшей до 14 января 1929 года Владимирской губернии РСФСР (в границах, значительно меньших Владимирской губернии Российской импер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AA01-AD65-464B-A58F-5319C25C96D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селённые пункты с количеством жителей выше 10 тысяч</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 состоянию на 1 января 2010 год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a:t>
            </a:r>
            <a:r>
              <a:rPr b="0" lang="ru-RU" sz="1200" spc="-1" strike="noStrike">
                <a:solidFill>
                  <a:srgbClr val="000000"/>
                </a:solidFill>
                <a:latin typeface="Calibri"/>
              </a:rPr>
              <a:t>	</a:t>
            </a:r>
            <a:r>
              <a:rPr b="0" lang="ru-RU" sz="1200" spc="-1" strike="noStrike">
                <a:solidFill>
                  <a:srgbClr val="000000"/>
                </a:solidFill>
                <a:latin typeface="Calibri"/>
              </a:rPr>
              <a:t>    ▲343,7</a:t>
            </a:r>
            <a:r>
              <a:rPr b="0" lang="ru-RU" sz="1200" spc="-1" strike="noStrike">
                <a:solidFill>
                  <a:srgbClr val="000000"/>
                </a:solidFill>
                <a:latin typeface="Calibri"/>
              </a:rPr>
              <a:t>	</a:t>
            </a:r>
            <a:r>
              <a:rPr b="0" lang="ru-RU" sz="1200" spc="-1" strike="noStrike">
                <a:solidFill>
                  <a:srgbClr val="000000"/>
                </a:solidFill>
                <a:latin typeface="Calibri"/>
              </a:rPr>
              <a:t>Лакинск</a:t>
            </a:r>
            <a:r>
              <a:rPr b="0" lang="ru-RU" sz="1200" spc="-1" strike="noStrike">
                <a:solidFill>
                  <a:srgbClr val="000000"/>
                </a:solidFill>
                <a:latin typeface="Calibri"/>
              </a:rPr>
              <a:t>	</a:t>
            </a:r>
            <a:r>
              <a:rPr b="0" lang="ru-RU" sz="1200" spc="-1" strike="noStrike">
                <a:solidFill>
                  <a:srgbClr val="000000"/>
                </a:solidFill>
                <a:latin typeface="Calibri"/>
              </a:rPr>
              <a:t>▼15,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a:t>
            </a:r>
            <a:r>
              <a:rPr b="0" lang="ru-RU" sz="1200" spc="-1" strike="noStrike">
                <a:solidFill>
                  <a:srgbClr val="000000"/>
                </a:solidFill>
                <a:latin typeface="Calibri"/>
              </a:rPr>
              <a:t>	</a:t>
            </a:r>
            <a:r>
              <a:rPr b="0" lang="ru-RU" sz="1200" spc="-1" strike="noStrike">
                <a:solidFill>
                  <a:srgbClr val="000000"/>
                </a:solidFill>
                <a:latin typeface="Calibri"/>
              </a:rPr>
              <a:t>    ▼148,1</a:t>
            </a:r>
            <a:r>
              <a:rPr b="0" lang="ru-RU" sz="1200" spc="-1" strike="noStrike">
                <a:solidFill>
                  <a:srgbClr val="000000"/>
                </a:solidFill>
                <a:latin typeface="Calibri"/>
              </a:rPr>
              <a:t>	</a:t>
            </a:r>
            <a:r>
              <a:rPr b="0" lang="ru-RU" sz="1200" spc="-1" strike="noStrike">
                <a:solidFill>
                  <a:srgbClr val="000000"/>
                </a:solidFill>
                <a:latin typeface="Calibri"/>
              </a:rPr>
              <a:t>Покров</a:t>
            </a:r>
            <a:r>
              <a:rPr b="0" lang="ru-RU" sz="1200" spc="-1" strike="noStrike">
                <a:solidFill>
                  <a:srgbClr val="000000"/>
                </a:solidFill>
                <a:latin typeface="Calibri"/>
              </a:rPr>
              <a:t>	</a:t>
            </a:r>
            <a:r>
              <a:rPr b="0" lang="ru-RU" sz="1200" spc="-1" strike="noStrike">
                <a:solidFill>
                  <a:srgbClr val="000000"/>
                </a:solidFill>
                <a:latin typeface="Calibri"/>
              </a:rPr>
              <a:t>▼15,3</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ром</a:t>
            </a:r>
            <a:r>
              <a:rPr b="0" lang="ru-RU" sz="1200" spc="-1" strike="noStrike">
                <a:solidFill>
                  <a:srgbClr val="000000"/>
                </a:solidFill>
                <a:latin typeface="Calibri"/>
              </a:rPr>
              <a:t>	</a:t>
            </a:r>
            <a:r>
              <a:rPr b="0" lang="ru-RU" sz="1200" spc="-1" strike="noStrike">
                <a:solidFill>
                  <a:srgbClr val="000000"/>
                </a:solidFill>
                <a:latin typeface="Calibri"/>
              </a:rPr>
              <a:t>    ▼118,1</a:t>
            </a:r>
            <a:r>
              <a:rPr b="0" lang="ru-RU" sz="1200" spc="-1" strike="noStrike">
                <a:solidFill>
                  <a:srgbClr val="000000"/>
                </a:solidFill>
                <a:latin typeface="Calibri"/>
              </a:rPr>
              <a:t>	</a:t>
            </a:r>
            <a:r>
              <a:rPr b="0" lang="ru-RU" sz="1200" spc="-1" strike="noStrike">
                <a:solidFill>
                  <a:srgbClr val="000000"/>
                </a:solidFill>
                <a:latin typeface="Calibri"/>
              </a:rPr>
              <a:t>Карабаново</a:t>
            </a:r>
            <a:r>
              <a:rPr b="0" lang="ru-RU" sz="1200" spc="-1" strike="noStrike">
                <a:solidFill>
                  <a:srgbClr val="000000"/>
                </a:solidFill>
                <a:latin typeface="Calibri"/>
              </a:rPr>
              <a:t>	</a:t>
            </a:r>
            <a:r>
              <a:rPr b="0" lang="ru-RU" sz="1200" spc="-1" strike="noStrike">
                <a:solidFill>
                  <a:srgbClr val="000000"/>
                </a:solidFill>
                <a:latin typeface="Calibri"/>
              </a:rPr>
              <a:t>▼15,2</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ександров▼62,8</a:t>
            </a:r>
            <a:r>
              <a:rPr b="0" lang="ru-RU" sz="1200" spc="-1" strike="noStrike">
                <a:solidFill>
                  <a:srgbClr val="000000"/>
                </a:solidFill>
                <a:latin typeface="Calibri"/>
              </a:rPr>
              <a:t>	</a:t>
            </a:r>
            <a:r>
              <a:rPr b="0" lang="ru-RU" sz="1200" spc="-1" strike="noStrike">
                <a:solidFill>
                  <a:srgbClr val="000000"/>
                </a:solidFill>
                <a:latin typeface="Calibri"/>
              </a:rPr>
              <a:t>Меленки</a:t>
            </a:r>
            <a:r>
              <a:rPr b="0" lang="ru-RU" sz="1200" spc="-1" strike="noStrike">
                <a:solidFill>
                  <a:srgbClr val="000000"/>
                </a:solidFill>
                <a:latin typeface="Calibri"/>
              </a:rPr>
              <a:t>	</a:t>
            </a:r>
            <a:r>
              <a:rPr b="0" lang="ru-RU" sz="1200" spc="-1" strike="noStrike">
                <a:solidFill>
                  <a:srgbClr val="000000"/>
                </a:solidFill>
                <a:latin typeface="Calibri"/>
              </a:rPr>
              <a:t>▼15,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ь-Хруст.   ▼60,7</a:t>
            </a:r>
            <a:r>
              <a:rPr b="0" lang="ru-RU" sz="1200" spc="-1" strike="noStrike">
                <a:solidFill>
                  <a:srgbClr val="000000"/>
                </a:solidFill>
                <a:latin typeface="Calibri"/>
              </a:rPr>
              <a:t>	</a:t>
            </a:r>
            <a:r>
              <a:rPr b="0" lang="ru-RU" sz="1200" spc="-1" strike="noStrike">
                <a:solidFill>
                  <a:srgbClr val="000000"/>
                </a:solidFill>
                <a:latin typeface="Calibri"/>
              </a:rPr>
              <a:t>Струнино</a:t>
            </a:r>
            <a:r>
              <a:rPr b="0" lang="ru-RU" sz="1200" spc="-1" strike="noStrike">
                <a:solidFill>
                  <a:srgbClr val="000000"/>
                </a:solidFill>
                <a:latin typeface="Calibri"/>
              </a:rPr>
              <a:t>	</a:t>
            </a:r>
            <a:r>
              <a:rPr b="0" lang="ru-RU" sz="1200" spc="-1" strike="noStrike">
                <a:solidFill>
                  <a:srgbClr val="000000"/>
                </a:solidFill>
                <a:latin typeface="Calibri"/>
              </a:rPr>
              <a:t>▼14,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ьчугино   ▼45,6</a:t>
            </a:r>
            <a:r>
              <a:rPr b="0" lang="ru-RU" sz="1200" spc="-1" strike="noStrike">
                <a:solidFill>
                  <a:srgbClr val="000000"/>
                </a:solidFill>
                <a:latin typeface="Calibri"/>
              </a:rPr>
              <a:t>	</a:t>
            </a:r>
            <a:r>
              <a:rPr b="0" lang="ru-RU" sz="1200" spc="-1" strike="noStrike">
                <a:solidFill>
                  <a:srgbClr val="000000"/>
                </a:solidFill>
                <a:latin typeface="Calibri"/>
              </a:rPr>
              <a:t>Петушки</a:t>
            </a:r>
            <a:r>
              <a:rPr b="0" lang="ru-RU" sz="1200" spc="-1" strike="noStrike">
                <a:solidFill>
                  <a:srgbClr val="000000"/>
                </a:solidFill>
                <a:latin typeface="Calibri"/>
              </a:rPr>
              <a:t>	</a:t>
            </a:r>
            <a:r>
              <a:rPr b="0" lang="ru-RU" sz="1200" spc="-1" strike="noStrike">
                <a:solidFill>
                  <a:srgbClr val="000000"/>
                </a:solidFill>
                <a:latin typeface="Calibri"/>
              </a:rPr>
              <a:t>▼14,3</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язники</a:t>
            </a:r>
            <a:r>
              <a:rPr b="0" lang="ru-RU" sz="1200" spc="-1" strike="noStrike">
                <a:solidFill>
                  <a:srgbClr val="000000"/>
                </a:solidFill>
                <a:latin typeface="Calibri"/>
              </a:rPr>
              <a:t>	</a:t>
            </a:r>
            <a:r>
              <a:rPr b="0" lang="ru-RU" sz="1200" spc="-1" strike="noStrike">
                <a:solidFill>
                  <a:srgbClr val="000000"/>
                </a:solidFill>
                <a:latin typeface="Calibri"/>
              </a:rPr>
              <a:t>     ▲45,2</a:t>
            </a:r>
            <a:r>
              <a:rPr b="0" lang="ru-RU" sz="1200" spc="-1" strike="noStrike">
                <a:solidFill>
                  <a:srgbClr val="000000"/>
                </a:solidFill>
                <a:latin typeface="Calibri"/>
              </a:rPr>
              <a:t>	</a:t>
            </a:r>
            <a:r>
              <a:rPr b="0" lang="ru-RU" sz="1200" spc="-1" strike="noStrike">
                <a:solidFill>
                  <a:srgbClr val="000000"/>
                </a:solidFill>
                <a:latin typeface="Calibri"/>
              </a:rPr>
              <a:t>Камешково</a:t>
            </a:r>
            <a:r>
              <a:rPr b="0" lang="ru-RU" sz="1200" spc="-1" strike="noStrike">
                <a:solidFill>
                  <a:srgbClr val="000000"/>
                </a:solidFill>
                <a:latin typeface="Calibri"/>
              </a:rPr>
              <a:t>	</a:t>
            </a:r>
            <a:r>
              <a:rPr b="0" lang="ru-RU" sz="1200" spc="-1" strike="noStrike">
                <a:solidFill>
                  <a:srgbClr val="000000"/>
                </a:solidFill>
                <a:latin typeface="Calibri"/>
              </a:rPr>
              <a:t>▼13,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иржач</a:t>
            </a:r>
            <a:r>
              <a:rPr b="0" lang="ru-RU" sz="1200" spc="-1" strike="noStrike">
                <a:solidFill>
                  <a:srgbClr val="000000"/>
                </a:solidFill>
                <a:latin typeface="Calibri"/>
              </a:rPr>
              <a:t>	</a:t>
            </a:r>
            <a:r>
              <a:rPr b="0" lang="ru-RU" sz="1200" spc="-1" strike="noStrike">
                <a:solidFill>
                  <a:srgbClr val="000000"/>
                </a:solidFill>
                <a:latin typeface="Calibri"/>
              </a:rPr>
              <a:t>     ▼30,4</a:t>
            </a:r>
            <a:r>
              <a:rPr b="0" lang="ru-RU" sz="1200" spc="-1" strike="noStrike">
                <a:solidFill>
                  <a:srgbClr val="000000"/>
                </a:solidFill>
                <a:latin typeface="Calibri"/>
              </a:rPr>
              <a:t>	</a:t>
            </a:r>
            <a:r>
              <a:rPr b="0" lang="ru-RU" sz="1200" spc="-1" strike="noStrike">
                <a:solidFill>
                  <a:srgbClr val="000000"/>
                </a:solidFill>
                <a:latin typeface="Calibri"/>
              </a:rPr>
              <a:t>Гороховец</a:t>
            </a:r>
            <a:r>
              <a:rPr b="0" lang="ru-RU" sz="1200" spc="-1" strike="noStrike">
                <a:solidFill>
                  <a:srgbClr val="000000"/>
                </a:solidFill>
                <a:latin typeface="Calibri"/>
              </a:rPr>
              <a:t>	</a:t>
            </a:r>
            <a:r>
              <a:rPr b="0" lang="ru-RU" sz="1200" spc="-1" strike="noStrike">
                <a:solidFill>
                  <a:srgbClr val="000000"/>
                </a:solidFill>
                <a:latin typeface="Calibri"/>
              </a:rPr>
              <a:t>▼13,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бинка</a:t>
            </a:r>
            <a:r>
              <a:rPr b="0" lang="ru-RU" sz="1200" spc="-1" strike="noStrike">
                <a:solidFill>
                  <a:srgbClr val="000000"/>
                </a:solidFill>
                <a:latin typeface="Calibri"/>
              </a:rPr>
              <a:t>	</a:t>
            </a:r>
            <a:r>
              <a:rPr b="0" lang="ru-RU" sz="1200" spc="-1" strike="noStrike">
                <a:solidFill>
                  <a:srgbClr val="000000"/>
                </a:solidFill>
                <a:latin typeface="Calibri"/>
              </a:rPr>
              <a:t>     ▼19,4</a:t>
            </a:r>
            <a:r>
              <a:rPr b="0" lang="ru-RU" sz="1200" spc="-1" strike="noStrike">
                <a:solidFill>
                  <a:srgbClr val="000000"/>
                </a:solidFill>
                <a:latin typeface="Calibri"/>
              </a:rPr>
              <a:t>	</a:t>
            </a:r>
            <a:r>
              <a:rPr b="0" lang="ru-RU" sz="1200" spc="-1" strike="noStrike">
                <a:solidFill>
                  <a:srgbClr val="000000"/>
                </a:solidFill>
                <a:latin typeface="Calibri"/>
              </a:rPr>
              <a:t>Судогда</a:t>
            </a:r>
            <a:r>
              <a:rPr b="0" lang="ru-RU" sz="1200" spc="-1" strike="noStrike">
                <a:solidFill>
                  <a:srgbClr val="000000"/>
                </a:solidFill>
                <a:latin typeface="Calibri"/>
              </a:rPr>
              <a:t>	</a:t>
            </a:r>
            <a:r>
              <a:rPr b="0" lang="ru-RU" sz="1200" spc="-1" strike="noStrike">
                <a:solidFill>
                  <a:srgbClr val="000000"/>
                </a:solidFill>
                <a:latin typeface="Calibri"/>
              </a:rPr>
              <a:t>▼12,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рьев-Пол.   ▼18,9</a:t>
            </a:r>
            <a:r>
              <a:rPr b="0" lang="ru-RU" sz="1200" spc="-1" strike="noStrike">
                <a:solidFill>
                  <a:srgbClr val="000000"/>
                </a:solidFill>
                <a:latin typeface="Calibri"/>
              </a:rPr>
              <a:t>	</a:t>
            </a:r>
            <a:r>
              <a:rPr b="0" lang="ru-RU" sz="1200" spc="-1" strike="noStrike">
                <a:solidFill>
                  <a:srgbClr val="000000"/>
                </a:solidFill>
                <a:latin typeface="Calibri"/>
              </a:rPr>
              <a:t>Суздаль</a:t>
            </a:r>
            <a:r>
              <a:rPr b="0" lang="ru-RU" sz="1200" spc="-1" strike="noStrike">
                <a:solidFill>
                  <a:srgbClr val="000000"/>
                </a:solidFill>
                <a:latin typeface="Calibri"/>
              </a:rPr>
              <a:t>	</a:t>
            </a:r>
            <a:r>
              <a:rPr b="0" lang="ru-RU" sz="1200" spc="-1" strike="noStrike">
                <a:solidFill>
                  <a:srgbClr val="000000"/>
                </a:solidFill>
                <a:latin typeface="Calibri"/>
              </a:rPr>
              <a:t>▼1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дужный</a:t>
            </a:r>
            <a:r>
              <a:rPr b="0" lang="ru-RU" sz="1200" spc="-1" strike="noStrike">
                <a:solidFill>
                  <a:srgbClr val="000000"/>
                </a:solidFill>
                <a:latin typeface="Calibri"/>
              </a:rPr>
              <a:t>	</a:t>
            </a:r>
            <a:r>
              <a:rPr b="0" lang="ru-RU" sz="1200" spc="-1" strike="noStrike">
                <a:solidFill>
                  <a:srgbClr val="000000"/>
                </a:solidFill>
                <a:latin typeface="Calibri"/>
              </a:rPr>
              <a:t>      ▲1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5E86-9CED-4216-86AC-AD2E1934CD4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егиональный продукт: 111,9 млрд руб. (200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П на душу населения: 76,3 тыс. руб. (200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альное место в экономике занимает промышленность, особое влияние на развитие оказывает федеральный транспорт, представленный несколькими крупнейшими магистралями. Федеральное финансирование в балансе регионального бюджета достигает 25 % (2006). Доля сельского хозяйства в ВРП — 9 % (2006) (12 %—2005). Региональным руководством поддерживается развитие экскурсинно-исторического и экологического туризм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материалам сайта prognoz-vrp.narod.ru ВРП Владимирской области за 2007 год составило 146,6 млрд руб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A6209-07F9-4D4B-AA68-C04E5DD9105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мыш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руктуре промышленности основную роль играет машиностроение, создающее до 40 % промышленного продукта, существенное значение играет пищевая промышленность (до 17 % промышленного продукта), электроэнергетика (10 %), стекольная (до 7 %) и лёгкая (около 5 %) промышлен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68C00-687D-4866-8874-19B672BAFF6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шиностро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ые центры машиностроения — Владимир, Ковров, Муром. Значимые предприят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тракторный завод, Владимирский электромоторный завод, Электроприб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ский механический завод, Экскаваторный завод «Ковровец», Завод им. Дегтярё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ромский стрелочный завод, Муромский машиностроительный завод, Муромский тепловозостроительный за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ьчугинский завод «Электрокаб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оды автомобильных комплектующих: Автосвет (Киржач) и ОСВАР (Вязники), «Стакол» (Петушки), Автоприбор (Владими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оховецкий завод подъёмно-транспортного оборуд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89073-CA56-428D-9EF0-41689C9F3B0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щевая промыш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развита переработка молочной продукции и кондитерское производст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е объединения предприятий — «Молоко» и «Ополь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дитерская фабрика концерна Kraft F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472A-1F36-4BDB-9E77-57020281DCA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нергети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егион характеризуется существенным дефицитом электроэнергии, потребность на 3/4 покрывается из ОЭС Центра через Владимирские электросети. Крупнейшие объекты — Владимирская ТЭЦ-2 мощностью в 407 МВт, и узловая Владимирская подстанция 750 кВ мощностью 2500 МВА. Интересно, что в начале 1940-х было практически начато строительство двух гидроузлов с ГЭС на Клязьме, остановившееся с началом войны. Действовало несколько миниГЭС на Нерли, у деревни Финеево на Киржаче, множество водяных мельниц.</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требление энергоресурсов в 1999 году составил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родный газ — 2,6 млрд м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голь — 323 тыс. 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фтепродуктов — 647 тыс. 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порт электроэнергии — 3,9 млрд кВт·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DDD6A-CA35-40FE-AD53-7A9F7A83253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екольная промышленность</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евской хрустальный зав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О «Символ» — около 60 % российского оконного стекла (г. Курло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Красное Эхо» (посёлок Красное Эх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ОО «РАСКО» (посёлок Анопи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27620-1D2C-4138-A843-CA39D6EE7EF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ой грузопоток региона проходит по трём из четырёх направлений транссиба, кроме того в регионе часть большого московского ж/д кольца, ветки Александров — Иваново и Камешково — Иваново. Развита и сеть внутренних железных дорог; ветки Ковров — Муром, Владимир — Тума, ответвления на Судогду, Радужный, Уршельский и Фролищи. Крупнейшие локомотивные депо Александров, Владимир и Муром. Оператор ОАО «РЖ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втором месте по объёмам находится трубопроводный трансп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е нитки нефтепровода Нижний Новгород — Рязань и две нитки Нижний Новгород — Ярославль (суммарно не менее 45 млн т/год), обеспечивающие транзит западно-сибирской и волго-уральской нефти к Московскому, Ярославскому, Рязанскому и Киришскому НПЗ, и к порту Приморск на экспорт. (ОАО АК «Транснеф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зопроводы Нижний Новгород — Центр (КС Муром) и Нижний Новгород — Щёлково с отводами на Иваново и южные районы области, суммарный транзит более 6 млрд м³/год. ОАО «Газпр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уктопровод (МНПП) Кстово — Рязань (не менее 2 млн т/год в основном дизельного топлива) с отводами на Судогду и Вязники. Перекачивающая станция с нефтехранилищами в посёлке Второво, ведётся строительство следующей очереди трубопровода Второво — Приморск (действующая мощность 8,4 млн т. дизельного топлива в год), планируется увеличение ёмкости резервуаров вплоть до 80 тыс. м³, а мощности всего узла до 24,6 млн т/год (проект «Север» ОАО «Транснеф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081D5-A8D8-4D0F-ACE8-112C2A7F8F7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автомобильных дорог наиболее значима автодорога М7 «Волга» до 10 млн т./год (через Покров, Петушки, Лакинск, Владимир, Вязники и Гороховец), подход от магистрали к Иваново протяжённостью 102 км (через Суздаль), а также незначительный участок автодороги А108, слабо поддерживаемые Р72 Владимир — Муром и Р125 Нижний Новгород — Касим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гистральные линии электропередач: ВЛ 750 кВ Калининская АЭС — Владимирская ПС, 2xВЛ 500 кВ Жигулёвская ГЭС — Москва, ВЛ Костромская ГРЭС — Москва, ВЛ 500 кВ Костромская ГРЭС — Владимирская ПС. Только для внутреннего потребления (не считая транзит) в регион перебрасывается более 4 млрд кВт·ч/год (что эквивалентно около 0,7 млн т/год мазута для типовой электростан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вито грузовое и пассажирское судоходство по Клязьме и особенно Оке, порты Вязники и Муром,Гороховецкий судостроительный за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эропорт местных авиалиний Семязино в 5 км от Владимира (1950 х 42 (асфальтобетон) до 25 тонн и 650 х 70 (грунт)), посадочные площадки в Вязниках, Гороховце, многочисленные военные аэродромы. Над регионом проходит значительная часть воздушных коридоров восточного направления от Москв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ит отметить развитые троллейбусные системы Владимира и Ковро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хранено узкоколейное движение, в том числе и пассажирское по Островскому и Бакшеевскому, Мезиновскому и Гусевским болотам Мещёры.</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25166-4892-43C7-BB09-757DEC53ACB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ографическое полож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расположена в центре Европейской части России на юге Волжско-Окского междуречья, в 80 км на восток от Москвы. Владимирская область протянулась на 170 км с севера на юг и на 280 км — с запада на вос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15EAC-4C9E-4A26-93B1-38BDB93928D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ьское хозяй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ализируется на растениеводстве, молочно-мясном скотоводстве и птицеводстве. Ведущая отрасль сельского хозяйства — животноводство молочно-мясного направления. Разводят крупный рогатый скот, свиней, овец, коз. Коневодство (владимирские тяжеловозы). Площадь сельхозугодий — 930,9 тыс. га (32,1 % земельного фонда), в том числе пашня — 66,8 %. Посевные площади составляют 476,5 тыс. га, из которых 58,7 % занимают кормовые культуры, 29 % — зерновые. Из зерновых выращивают пшеницу, рожь, ячмень, овёс. Планируется расширение посевов рапса (для производства рапсового масла), а также специальных сортов картофеля и овощей (для переработки на месте, производства овощных соков). Около 25 специализированных предприятий занимаются выращиванием племенного скота. Несколько рыбных хозяйств (крупнейшее из них «Ворша»), многочисленные пасе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C64F7-0660-4631-B8D8-6355ED176EC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ка, образование и культу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учными исследованиями в области занимаются более 30 организаций. Среди ни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ТИ тракторных и комбайновых двигател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ОО «НИИ Стекл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КиПТИ органических удобрений и торф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защиты животны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синтеза минерального сыр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ветеринарной вирусологии и микробиологии (Вольги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НИПКиТИ электромашиностро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НИИ лазерный центр РФ «Радуга» (ЗАТО Радужны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Сигн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НИПТИ «Микро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 «Владимирский НИИ сельского хозяй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9B1C-A943-4A3C-867B-2C66FFFC6F7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е представители системы образо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государственный университ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государственный гуманитарный университ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ская государственная технологическая академ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юридический институт Министерства юсти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гионе действуют исправительно-образовательные и трудовые учреждения, в том числе несколько подростковых и юношески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ой драматический театр, Кукольный театр, Владимирская филармония, Областная научная библиотека, современные кинотеатры «Киномакс-Буревестник» (Владимир), «Сатурн» (Александров) и «Октябрь» (Муром), ежегодный фестиваль анимационного кино (Сузда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художественных промыслов развиты вышивка, ювелирное дело, лаковая миниатюра (посёлок Мстё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исповедуемая религия — православное христианство имеет глубокие исторические корни. Здесь множество действующих монастырей, храмов и часовен со значительными приходами, основная регулирующая структура — Русская православная церков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является одним из 15 регионов, в которых с 1 сентября 2006 года был введён в качестве регионального компонента образования предмет Основы православной культур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9675F-43F5-4490-B4AC-C60DEE5099A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екреация, спорт</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ь знаменита сохранившимися древними русскими городами Александров, Владимир, Гороховец, Кидекша, Муром, Юрьев-Польский, Гусь-Хрустальный, их архитектурно-историческими, культурными и религиозными памятниками, местом православного паломничества — городом Суздаль (Александровский, Покровский, Спасо-Евфимиев, и Ризоположенский монастыри), уникальным архитектурно-ландшафтным памятником — Церковью Покрова на Нерли в Боголюбово. По области проходит основная часть маршрутов знаменитого Золотого кольца России. Часто посещаемым туристами местом стала историческая тюрьма «Владимирский центр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й природоохранный объект, национальный парк Мещёра — популярное место туризма и отдыха (байдарочные, лыжные, пешие и велопоходы, охота, рыбалка, отдых у воды, сбор грибов и ягод), туристические базы. Не менее популярны среди байдарочников реки северо-запада области (Киржач, Пекша, Колокша). Благодаря своей отдалённости и доступности популярны озёра парка «Кшара», развито туристическое и спортивное судоходство по Оке и Клязьм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оуборд-центр в селе Сновицы Суздальского района, горнолыжный спуск «Пужалова гора» в Гороховце, парашютный спорт на аэродромах Киржача, Александрова и Семязино, развит пейнтбол, картинг, в Коврове развит мотоциклетный спорт, автотриал в болотах области, дайвинг в глубоких озёрах Балахнинской низины, Футбольные клубы «Торпедо-Владимир» и «Локомотив» (Муром). Стадион «Торпедо» вместимостью 19000 человек (г. Владими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виваются дачные и садовые участки вблизи крупных городов и особенно приближённые к Москве территории на западе обла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AA52A-5032-44DA-B716-71217D1F111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ая вла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бернатор области — Виноградов Николай Владимирович.</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8 февраля 2005 Николай Виноградов утверждён владимирским законодательным собранием на посту главы области по представлению президен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ители области в Совете Фед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дим Густов (Единая Россия) — представитель администрации Владимирской области, впервые был назначен в феврале 2001, назначение вновь подтверждено 12 апреля 200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венков, Александр Николаевич (Единая Россия) — представитель ЗС Владимирской области, избран в марте 2009 год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боры в областной парламент прошли 1 марта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7DC04-F227-46F4-BC9F-4F0C6BE7276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вестные люд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ласти родилис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ов, Юрий Кузьмич (р.1942)- артист балета, народный артист СССР (198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орыкин, Владимир Козьмич (1888—1982) — изобретатель современного телевид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ов, Пётр Александрович (1899—1973) — актёр театра и кино, народный артист СССР (196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азарев, Михаил Петрович (1788—1851) — русский флотоводец и мореплаватель, адмирал, первооткрыватель Антарктид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летов, Николай Григорьевич (1834—1912) — русский генерал, глава болгарского ополчения во время русско-турецкой войны 1877-1878 г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летов, Александр Григорьевич (1839—1896) — русский физик, профессор, исследователь фотоэффек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маков, Павел Васильевич (1885—1982) — советский учёный в области телевидения и электрон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38DBF-242F-4511-AA36-9FA816C1CAF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у выполнил ученик 11 кл. Постников Дени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6D10-465F-4A82-9CDE-0EA4CF5380C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льеф, геологическое строение и полезные ископаемые</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рритория находится в центре Восточно-Европейской равнины, основная часть территории — слабо всхолмлённая равнина с общим понижением от Клинско-Дмитровской гряды (высоты до 271 м) на севере, через Владимирское (Юрьево) Ополье (высота до 236 м), далее на юг к Мещёрской низменности (преобладающая высота 120 м) и на восток через Окско-Цнинский вал (до 184 м) и Гороховецкий отрог (верхняя точка — 191 м) к Балахнинской низменности (около 90 м) и устью Клязьмы (67 м). Благодаря резким склонам возвышенностей регион обладает рекреационными (зимние виды спорта) ресурсами и гидроаккумуляционными возможностя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4388-FABB-4BC7-BADD-14154CED9D2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ми минеральными ресурсами области являются известняки, торф, строительные пески камни, огнеупорные и кирпичные глины. Запасы торфа в размере 59 млн тонн, основная их часть залегает в пределах Мещёрской низменности. Общие залежи известняков составляют 30 млн тонн и расположены в районе Окско-Цнинского вала, где их толщи достигают 130 метров (Ковровский, Вязниковский, Судогодский, Селивановский район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рцевые пески — чистые, мелкие, почти без примесей глинистых частиц ледникового происхождения имеют федеральное значение, в больших количествах залегают в южных районах области (Гусь-Хрустальный и Меленковский районы). Используются пески для производства стекла и хрусталя. Также в области имеются фосфориты, железная руда, есть небольшие залежи гипса, флюсовых материалов и металлургических доломитов местного знач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территории области встречаются естественные источники минеральных 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4EB9-A994-4881-A5BF-8BF706614F2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ма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мат области умеренно континентальный, продолжительность периода со среднесуточной температурой ниже 0 °C — 137 дней, среднегодовая температура 5 °C (стандартное отклонение 12 °C), средняя температура января −13 °C, июля +19 °C, средняя толщина снежного покрова 40 мм (лежит в среднем 144 дня). Среднегодовое количество осадков 420—740 мм, продолжительность вегетационного периода 160—180 д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8247-B213-48F4-A530-AEA3A4FF24C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идрограф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ая гладь поверхностных вод составляет 32,9 тыс. г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реки области Клязьма и Ока. По территории области протекают сотни больших и малых рек, общей протяжённостью более 8,6 тыс. км (их количество вместе с ручьями доходит до 560). Клязьма впадает в Оку на юго-восточной окраине по границе с Нижегородской областью. Крупнейшие притоки Клязьмы: Шерна (с притоком Молокча), Киржач (с притоками Большой и Малый Киржач), Пекша, Колокша, Нерль, Судогда, Уводь, Лух, Суворощь, притоки Оки: Гусь, Унжа и Ушна, близ Александрова берёт начало приток Волги река Дуб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A8950-12D9-47BD-8A3D-7B1FF7802D7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читывается около 300 озёр общей площадью в пять тысяч гектар. Большинство из них мелкие, бессточные, многие зарастают торфяным слоем. Происхождение озёр различно. Многочисленные озёра-старицы разбросаны по долинам рек. Самые крупные из них — Урвановское (длиной 12 км) и Виша (длиной около 10 км). В Мещёрской низменности и на северо-западе области встречаются озёра древних аллювиальных долин: Исихры, Святое и др. Озёра карстового происхождения, расположенные в низовьях Клязьмы и в центре округа Вязники (северо-восток области), имеют сильно минерализованную воду и связаны с собой подземными водотоками. Наиболее крупное и глубокое из них — озеро Кшара. В округе Александров и Юрьев-Польском районе встречаются озёра ледникового происхождения небольших размер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массивы болот региона (общая их площадь составляет 37,4 тыс. га) встречаются в Мещёрской и Балахнинской (северо—восток области) низменностя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A85ED-181D-4095-9939-72402B1F77E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чв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гионе наравне встречаютс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дородные тёмноцветные карбонатные и серые лесные — связанные с широколиственными лесами в ополье, занимают 417,5 тыс. га или 14,3 % общей площади (Суздальский и Юрьев-Польский районы, части Александровского, Кольчугинского и Собинского рай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рновые аллювиальные (пойменные) почвы по берегам Оки и Клязь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рново-подзолистые почвы, сформировавшиеся под хвойными и смешанными леса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несуглинистого типа (Вязниковский, Муромский, частично Ковровский, Камешковский, Гороховецкий, Селивановский, Собинский, Киржачский, Александровский район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песчаного и песчаного типов (Гусь-Хрустальный, Меленковский, Петушинский, Судогодский районы, южные части Киржачского, Собинского, Муромского и Селивановского рай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золисто-болотные и болотные в пределах мещёрской низменности и гороховецких боло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мечается недостаточная обеспеченность почв бором и серой, 85—98 % почв относятся к категории низкообеспеченных цинк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градация земель наиболее распространена в виде водной эрозии — около 175 тыс. га эродированных земель и около 700 тыс. га — эрозионноопас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57EA9-EAE9-4B62-9629-01359F4C0B6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C5C4C-16D3-424A-BF65-D35EC9B74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2E3D7-3E54-4FCB-A5C3-CE61B3915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C028A-7C9D-4F6B-8805-9783D1CF8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1474B-3A95-446A-8341-AAA628595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47CF3-5AE8-4950-965F-5C9303C36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C4F51-424E-4004-BB3F-D7160E953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5D88F-82AD-4496-B399-7DB598DDF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10D57-EA4A-439D-A4FA-DAD0982C1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2077B-86F1-4D56-B104-33CD5870B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9F70B-DE2A-41AC-9E93-E90496D6E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C6716-6539-4958-932C-FCB930FF3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BA01E-79EF-4056-94B2-377746219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21CC5-5180-4E6D-85EF-D9BD1455F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434D0-1422-42F8-895C-C338994C6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7A2D3-EF20-40F8-8939-CB38C30A0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8F918C-E90A-4EBF-A444-4848F2156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CE2F5-44F9-4478-9CC2-D0A0C2C8DA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15282-9356-459E-8306-38AEBC470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3BA32-2B48-4DE3-A16C-F61BD04B6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9DCA3-65A4-49A2-914F-3D2032C15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5B801-560D-4A11-8493-0375F4209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9AA76-0748-4BC1-992F-BBA77B7F2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01353-D584-4470-8F55-7A1AD335C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BCB88-1AD0-4FAC-99D5-9443C4A36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E0E9-C673-4087-AE3D-FDCA7A5276E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0ED54-16C2-46C7-8B44-828466455EDF}"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8880" y="263664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Владимирская область</a:t>
            </a:r>
            <a:endParaRPr b="1" lang="en-US" sz="4400" spc="-1" strike="noStrike">
              <a:solidFill>
                <a:srgbClr val="ffffb7"/>
              </a:solidFill>
              <a:latin typeface="Arial Black"/>
            </a:endParaRPr>
          </a:p>
        </p:txBody>
      </p:sp>
      <p:pic>
        <p:nvPicPr>
          <p:cNvPr id="106" name="Picture 5" descr="125px-Flag_of_Vladimirskaya_Oblast"/>
          <p:cNvPicPr/>
          <p:nvPr/>
        </p:nvPicPr>
        <p:blipFill>
          <a:blip r:embed="rId1"/>
          <a:stretch/>
        </p:blipFill>
        <p:spPr>
          <a:xfrm>
            <a:off x="6372360" y="692280"/>
            <a:ext cx="2160360" cy="1089000"/>
          </a:xfrm>
          <a:prstGeom prst="rect">
            <a:avLst/>
          </a:prstGeom>
          <a:ln w="0">
            <a:noFill/>
          </a:ln>
        </p:spPr>
      </p:pic>
      <p:pic>
        <p:nvPicPr>
          <p:cNvPr id="107" name="Picture 6" descr="125px-Coat_of_arms_of_Vladimiri_Oblast"/>
          <p:cNvPicPr/>
          <p:nvPr/>
        </p:nvPicPr>
        <p:blipFill>
          <a:blip r:embed="rId2"/>
          <a:stretch/>
        </p:blipFill>
        <p:spPr>
          <a:xfrm>
            <a:off x="755640" y="549360"/>
            <a:ext cx="1190520" cy="1190520"/>
          </a:xfrm>
          <a:prstGeom prst="rect">
            <a:avLst/>
          </a:prstGeom>
          <a:ln w="0">
            <a:noFill/>
          </a:ln>
        </p:spPr>
      </p:pic>
      <p:sp>
        <p:nvSpPr>
          <p:cNvPr id="1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Флора</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бласть расположена в зоне смешанных лесов. Преобладают зональные широколиственно-еловые леса в моренных ландшафтах (на Клинско-Дмитровской гряде, на Гороховецком отроге), сосновые леса в Мещёрской низменности, в Заклязьменском бору и на Окско-Цнинском валу, широколиственные леса в Ополье и на склонах коренных берегов Оки и Клязьмы.</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ажнейшим сырьевым запасом и природным богатством Владимирской области являются леса, которые покрывают 1520,9 тыс. га (42 % территории региона). Запасы древесины — 209 млн м³, в том числе хвойных пород — 137,5 млн м³. Расчетная лесосека области используется на 90 %, ежегодно вырубается около 9 тыс. га леса для промышленных целей.</a:t>
            </a:r>
            <a:endParaRPr b="0" lang="en-US" sz="2200" spc="-1" strike="noStrike">
              <a:solidFill>
                <a:srgbClr val="ffffff"/>
              </a:solidFill>
              <a:latin typeface="Arial"/>
            </a:endParaRPr>
          </a:p>
        </p:txBody>
      </p:sp>
      <p:sp>
        <p:nvSpPr>
          <p:cNvPr id="13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836280"/>
            <a:ext cx="8007480" cy="525924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огата и славится своей растительностью увлажнённая Мещёра, здесь собирают малину, землянику, смородину, особенно много черники, брусники, калины и клюквы, многочисленные грибы и лекарственные растения (багульник болотный, хвощ полевой, тысячелистник обыкновенный, зверобой, мята, крапива, ландыш и др.). Разнообразные типы водорослей, мхов, лишайников.</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лора области насчитывает свыше 1300 видов сосудистых растений, около 200 видов мохообразных. В Красную книгу России из видов, обитающих в области, занесены венерин башмачок (Cypripedium calceolus), пыльцеголовник красный (Cephalanthera rubra), пальцекорник балтийский (Dactylorhiza baltica), пальцекорник Траунштейнера (Dactylorhiza traunsteineri),надбородник безлистный (Epipogium aphyllum), липарис Лёзеля (Liparis loeselii), неоттианте клобучковая (Neottianthe cucullata), ятрышник шлемоносный (Orchis militaris), ятрышник обожженный (Orchis ustulata) и др.</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Фауна</a:t>
            </a:r>
            <a:endParaRPr b="1" lang="en-US" sz="4400" spc="-1" strike="noStrike">
              <a:solidFill>
                <a:srgbClr val="ffffb7"/>
              </a:solidFill>
              <a:latin typeface="Arial Black"/>
            </a:endParaRPr>
          </a:p>
        </p:txBody>
      </p:sp>
      <p:sp>
        <p:nvSpPr>
          <p:cNvPr id="13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овременной фауне насчитывается более 50 видов млекопитающих, среди которых: лось, кабан, косуля, благородный и пятнистый олень, рысь, волк, белка, заяц, куница, лисица, хорёк, барсук и другие пушные звери (охота открыта с октября по февраль), 5 видов пресмыкающихся и 10 видов земноводных. В красную книгу РФ внесена русская выхухоль.</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территории области обитает 216 видов птиц, среди которых: глухарь, тетерев, рябчик, серая куропатка, вальдшнеп, гусь, утка и др. Перелётом проходит внесённый в Красную книгу РФ гусь-пискулька.</a:t>
            </a:r>
            <a:endParaRPr b="0" lang="en-US" sz="2400" spc="-1" strike="noStrike">
              <a:solidFill>
                <a:srgbClr val="ffffff"/>
              </a:solidFill>
              <a:latin typeface="Arial"/>
            </a:endParaRPr>
          </a:p>
        </p:txBody>
      </p:sp>
      <p:sp>
        <p:nvSpPr>
          <p:cNvPr id="13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7720" y="836280"/>
            <a:ext cx="8007480" cy="5259240"/>
          </a:xfrm>
          <a:prstGeom prst="rect">
            <a:avLst/>
          </a:prstGeom>
          <a:noFill/>
          <a:ln w="0">
            <a:noFill/>
          </a:ln>
        </p:spPr>
        <p:txBody>
          <a:bodyPr anchor="t">
            <a:normAutofit/>
          </a:bodyPr>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а промысловых охотничьих животных охота по лицензиям и разрешениям открыта в следующие сроки:</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лось, кабан, благородный олень, пятнистый олень (середина ноября — середина января)</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заяц (октябрь — январь)</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Охота на глухаря, тетерева, вальдшнепа, селезня и гуся разрешена в течение 10 дней в апреле.</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Водоёмы региона также богаты речной и озёрной рыбой многочисленных видов (вьюн, плотва, щука, окунь, карась, краснопёрка, в Клязьме встречается стерлядь), рыбалказимний (подлёдная рыбалка) период. Действует несколько охотничьих хозяйств.</a:t>
            </a:r>
            <a:endParaRPr b="0" lang="en-US" sz="25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храна природы</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кологическая ситуация в области в целом благоприятна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юге области на территории Гусь-Хрустального района выделена территория под Национальный парк «Мещёра», памятник природы — озеро Исихра, часть федерального заказника «Клязьминский» (северо-восток Ковровского района), сохраняющего выхухоль и в целом природный комплекс поймы Клязьмы, федеральный заказник «Муромский» в пойме Оки, площадью 56 200 га, охраняющий выхухоль и охотничьих животных региона, а также памятник природы озеро Виша. Создана и ведётся красная книга Владимирской област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з очагов загрязнения можно выделить промышленные центры региона — города Владимир, Ковров, Муром; периодические пожары и нарушение экосистем в осушённых торфяных болотах юго—запада и территории активного животноводства.</a:t>
            </a:r>
            <a:endParaRPr b="0" lang="en-US" sz="2000" spc="-1" strike="noStrike">
              <a:solidFill>
                <a:srgbClr val="ffffff"/>
              </a:solidFill>
              <a:latin typeface="Arial"/>
            </a:endParaRPr>
          </a:p>
        </p:txBody>
      </p:sp>
      <p:sp>
        <p:nvSpPr>
          <p:cNvPr id="14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История региона</a:t>
            </a:r>
            <a:endParaRPr b="1" lang="en-US" sz="4400" spc="-1" strike="noStrike">
              <a:solidFill>
                <a:srgbClr val="ffffb7"/>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йденные стоянки человека верхнего палеолита (ок. 25 тыс. лет до н. э.) «Сунгирь» говорят о заселённости владимирской земли с древнейших времен. Археологические раскопки Мурома и других поселений рассказывают нам о финно-угорских корнях этих земель. Нагляднейшие памятники истории — сохранившиеся города напоминают о древне-русской средневековой истории — пике культурного развития этих мест, а подробные документы, об истории последних столетий (Владимирская губерния, Владимирский тракт).</a:t>
            </a:r>
            <a:endParaRPr b="0" lang="en-US" sz="2400" spc="-1" strike="noStrike">
              <a:solidFill>
                <a:srgbClr val="ffffff"/>
              </a:solidFill>
              <a:latin typeface="Arial"/>
            </a:endParaRPr>
          </a:p>
        </p:txBody>
      </p:sp>
      <p:sp>
        <p:nvSpPr>
          <p:cNvPr id="14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грады</a:t>
            </a:r>
            <a:endParaRPr b="1" lang="en-US" sz="4400" spc="-1" strike="noStrike">
              <a:solidFill>
                <a:srgbClr val="ffffb7"/>
              </a:solidFill>
              <a:latin typeface="Arial Black"/>
            </a:endParaRPr>
          </a:p>
        </p:txBody>
      </p:sp>
      <p:sp>
        <p:nvSpPr>
          <p:cNvPr id="147" name="PlaceHolder 2"/>
          <p:cNvSpPr>
            <a:spLocks noGrp="1"/>
          </p:cNvSpPr>
          <p:nvPr>
            <p:ph/>
          </p:nvPr>
        </p:nvSpPr>
        <p:spPr>
          <a:xfrm>
            <a:off x="755280" y="2707920"/>
            <a:ext cx="8007480" cy="173988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ден Ленина (2 февраля 1967) — за выдающиеся заслуги в развитии народного хозяйства и культуры.</a:t>
            </a:r>
            <a:endParaRPr b="0" lang="en-US" sz="2400" spc="-1" strike="noStrike">
              <a:solidFill>
                <a:srgbClr val="ffffff"/>
              </a:solidFill>
              <a:latin typeface="Arial"/>
            </a:endParaRPr>
          </a:p>
        </p:txBody>
      </p:sp>
      <p:pic>
        <p:nvPicPr>
          <p:cNvPr id="148" name="Picture 4" descr="200px-Order_of_Lenin_type3"/>
          <p:cNvPicPr/>
          <p:nvPr/>
        </p:nvPicPr>
        <p:blipFill>
          <a:blip r:embed="rId1"/>
          <a:stretch/>
        </p:blipFill>
        <p:spPr>
          <a:xfrm>
            <a:off x="7164360" y="333360"/>
            <a:ext cx="1184400" cy="1262160"/>
          </a:xfrm>
          <a:prstGeom prst="rect">
            <a:avLst/>
          </a:prstGeom>
          <a:ln w="0">
            <a:noFill/>
          </a:ln>
        </p:spPr>
      </p:pic>
      <p:sp>
        <p:nvSpPr>
          <p:cNvPr id="14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селение</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селение 1430,0 тыс. человек (на январь 2010) (1449,5 — 2008; 1472,6 — 2006; 1487,2 — 2005)</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тность населения: 49,3 чел./км² (на январь 2010)</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дельный вес городского населения: 77,8 % (на январь 2008) (77,5 % — (2006) 78,5 % — (2005))</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реди субъектов федерации Центрального федерального округа занимает 2-е место после Московской области по числу городов с населением более 100 тысяч жителей, имея 3 таких города: Владимир, Ковров, Муром.</a:t>
            </a:r>
            <a:endParaRPr b="0" lang="en-US" sz="2400" spc="-1" strike="noStrike">
              <a:solidFill>
                <a:srgbClr val="ffffff"/>
              </a:solidFill>
              <a:latin typeface="Arial"/>
            </a:endParaRPr>
          </a:p>
        </p:txBody>
      </p:sp>
      <p:sp>
        <p:nvSpPr>
          <p:cNvPr id="15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837720" y="476280"/>
            <a:ext cx="8007480" cy="6121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род</a:t>
            </a:r>
            <a:r>
              <a:rPr b="0" lang="ru-RU" sz="2000" spc="-1" strike="noStrike">
                <a:solidFill>
                  <a:srgbClr val="ffffff"/>
                </a:solidFill>
                <a:latin typeface="Arial"/>
              </a:rPr>
              <a:t>	</a:t>
            </a:r>
            <a:r>
              <a:rPr b="0" lang="ru-RU" sz="2000" spc="-1" strike="noStrike">
                <a:solidFill>
                  <a:srgbClr val="ffffff"/>
                </a:solidFill>
                <a:latin typeface="Arial"/>
              </a:rPr>
              <a:t>Численность в 2002 году, человек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усские</a:t>
            </a:r>
            <a:r>
              <a:rPr b="0" lang="ru-RU" sz="2000" spc="-1" strike="noStrike">
                <a:solidFill>
                  <a:srgbClr val="ffffff"/>
                </a:solidFill>
                <a:latin typeface="Arial"/>
              </a:rPr>
              <a:t>	</a:t>
            </a:r>
            <a:r>
              <a:rPr b="0" lang="ru-RU" sz="2000" spc="-1" strike="noStrike">
                <a:solidFill>
                  <a:srgbClr val="ffffff"/>
                </a:solidFill>
                <a:latin typeface="Arial"/>
              </a:rPr>
              <a:t>            1443857</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краинцы</a:t>
            </a:r>
            <a:r>
              <a:rPr b="0" lang="ru-RU" sz="2000" spc="-1" strike="noStrike">
                <a:solidFill>
                  <a:srgbClr val="ffffff"/>
                </a:solidFill>
                <a:latin typeface="Arial"/>
              </a:rPr>
              <a:t>	</a:t>
            </a:r>
            <a:r>
              <a:rPr b="0" lang="ru-RU" sz="2000" spc="-1" strike="noStrike">
                <a:solidFill>
                  <a:srgbClr val="ffffff"/>
                </a:solidFill>
                <a:latin typeface="Arial"/>
              </a:rPr>
              <a:t>            16755</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атары</a:t>
            </a:r>
            <a:r>
              <a:rPr b="0" lang="ru-RU" sz="2000" spc="-1" strike="noStrike">
                <a:solidFill>
                  <a:srgbClr val="ffffff"/>
                </a:solidFill>
                <a:latin typeface="Arial"/>
              </a:rPr>
              <a:t>	</a:t>
            </a:r>
            <a:r>
              <a:rPr b="0" lang="ru-RU" sz="2000" spc="-1" strike="noStrike">
                <a:solidFill>
                  <a:srgbClr val="ffffff"/>
                </a:solidFill>
                <a:latin typeface="Arial"/>
              </a:rPr>
              <a:t>             867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елорусы</a:t>
            </a:r>
            <a:r>
              <a:rPr b="0" lang="ru-RU" sz="2000" spc="-1" strike="noStrike">
                <a:solidFill>
                  <a:srgbClr val="ffffff"/>
                </a:solidFill>
                <a:latin typeface="Arial"/>
              </a:rPr>
              <a:t>	</a:t>
            </a:r>
            <a:r>
              <a:rPr b="0" lang="ru-RU" sz="2000" spc="-1" strike="noStrike">
                <a:solidFill>
                  <a:srgbClr val="ffffff"/>
                </a:solidFill>
                <a:latin typeface="Arial"/>
              </a:rPr>
              <a:t>             5682</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рмяне</a:t>
            </a:r>
            <a:r>
              <a:rPr b="0" lang="ru-RU" sz="2000" spc="-1" strike="noStrike">
                <a:solidFill>
                  <a:srgbClr val="ffffff"/>
                </a:solidFill>
                <a:latin typeface="Arial"/>
              </a:rPr>
              <a:t>	</a:t>
            </a:r>
            <a:r>
              <a:rPr b="0" lang="ru-RU" sz="2000" spc="-1" strike="noStrike">
                <a:solidFill>
                  <a:srgbClr val="ffffff"/>
                </a:solidFill>
                <a:latin typeface="Arial"/>
              </a:rPr>
              <a:t>             4999</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рдва</a:t>
            </a:r>
            <a:r>
              <a:rPr b="0" lang="ru-RU" sz="2000" spc="-1" strike="noStrike">
                <a:solidFill>
                  <a:srgbClr val="ffffff"/>
                </a:solidFill>
                <a:latin typeface="Arial"/>
              </a:rPr>
              <a:t>	</a:t>
            </a:r>
            <a:r>
              <a:rPr b="0" lang="ru-RU" sz="2000" spc="-1" strike="noStrike">
                <a:solidFill>
                  <a:srgbClr val="ffffff"/>
                </a:solidFill>
                <a:latin typeface="Arial"/>
              </a:rPr>
              <a:t>             357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зербайджанцы</a:t>
            </a:r>
            <a:r>
              <a:rPr b="0" lang="ru-RU" sz="2000" spc="-1" strike="noStrike">
                <a:solidFill>
                  <a:srgbClr val="ffffff"/>
                </a:solidFill>
                <a:latin typeface="Arial"/>
              </a:rPr>
              <a:t>	</a:t>
            </a:r>
            <a:r>
              <a:rPr b="0" lang="ru-RU" sz="2000" spc="-1" strike="noStrike">
                <a:solidFill>
                  <a:srgbClr val="ffffff"/>
                </a:solidFill>
                <a:latin typeface="Arial"/>
              </a:rPr>
              <a:t>309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уваши</a:t>
            </a:r>
            <a:r>
              <a:rPr b="0" lang="ru-RU" sz="2000" spc="-1" strike="noStrike">
                <a:solidFill>
                  <a:srgbClr val="ffffff"/>
                </a:solidFill>
                <a:latin typeface="Arial"/>
              </a:rPr>
              <a:t>	</a:t>
            </a:r>
            <a:r>
              <a:rPr b="0" lang="ru-RU" sz="2000" spc="-1" strike="noStrike">
                <a:solidFill>
                  <a:srgbClr val="ffffff"/>
                </a:solidFill>
                <a:latin typeface="Arial"/>
              </a:rPr>
              <a:t>             2334</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ыгане</a:t>
            </a:r>
            <a:r>
              <a:rPr b="0" lang="ru-RU" sz="2000" spc="-1" strike="noStrike">
                <a:solidFill>
                  <a:srgbClr val="ffffff"/>
                </a:solidFill>
                <a:latin typeface="Arial"/>
              </a:rPr>
              <a:t>	</a:t>
            </a:r>
            <a:r>
              <a:rPr b="0" lang="ru-RU" sz="2000" spc="-1" strike="noStrike">
                <a:solidFill>
                  <a:srgbClr val="ffffff"/>
                </a:solidFill>
                <a:latin typeface="Arial"/>
              </a:rPr>
              <a:t>             2251</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лдаване</a:t>
            </a:r>
            <a:r>
              <a:rPr b="0" lang="ru-RU" sz="2000" spc="-1" strike="noStrike">
                <a:solidFill>
                  <a:srgbClr val="ffffff"/>
                </a:solidFill>
                <a:latin typeface="Arial"/>
              </a:rPr>
              <a:t>	</a:t>
            </a:r>
            <a:r>
              <a:rPr b="0" lang="ru-RU" sz="2000" spc="-1" strike="noStrike">
                <a:solidFill>
                  <a:srgbClr val="ffffff"/>
                </a:solidFill>
                <a:latin typeface="Arial"/>
              </a:rPr>
              <a:t>             2079</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мцы</a:t>
            </a:r>
            <a:r>
              <a:rPr b="0" lang="ru-RU" sz="2000" spc="-1" strike="noStrike">
                <a:solidFill>
                  <a:srgbClr val="ffffff"/>
                </a:solidFill>
                <a:latin typeface="Arial"/>
              </a:rPr>
              <a:t>	</a:t>
            </a:r>
            <a:r>
              <a:rPr b="0" lang="ru-RU" sz="2000" spc="-1" strike="noStrike">
                <a:solidFill>
                  <a:srgbClr val="ffffff"/>
                </a:solidFill>
                <a:latin typeface="Arial"/>
              </a:rPr>
              <a:t>             1435</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рузины</a:t>
            </a:r>
            <a:r>
              <a:rPr b="0" lang="ru-RU" sz="2000" spc="-1" strike="noStrike">
                <a:solidFill>
                  <a:srgbClr val="ffffff"/>
                </a:solidFill>
                <a:latin typeface="Arial"/>
              </a:rPr>
              <a:t>	</a:t>
            </a:r>
            <a:r>
              <a:rPr b="0" lang="ru-RU" sz="2000" spc="-1" strike="noStrike">
                <a:solidFill>
                  <a:srgbClr val="ffffff"/>
                </a:solidFill>
                <a:latin typeface="Arial"/>
              </a:rPr>
              <a:t>             1044</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арийцы</a:t>
            </a:r>
            <a:r>
              <a:rPr b="0" lang="ru-RU" sz="2000" spc="-1" strike="noStrike">
                <a:solidFill>
                  <a:srgbClr val="ffffff"/>
                </a:solidFill>
                <a:latin typeface="Arial"/>
              </a:rPr>
              <a:t>	</a:t>
            </a:r>
            <a:r>
              <a:rPr b="0" lang="ru-RU" sz="2000" spc="-1" strike="noStrike">
                <a:solidFill>
                  <a:srgbClr val="ffffff"/>
                </a:solidFill>
                <a:latin typeface="Arial"/>
              </a:rPr>
              <a:t>             1010</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казаны народы c численностью более 1000 человек</a:t>
            </a:r>
            <a:endParaRPr b="0" lang="en-US" sz="2000" spc="-1" strike="noStrike">
              <a:solidFill>
                <a:srgbClr val="ffffff"/>
              </a:solidFill>
              <a:latin typeface="Arial"/>
            </a:endParaRPr>
          </a:p>
        </p:txBody>
      </p:sp>
      <p:sp>
        <p:nvSpPr>
          <p:cNvPr id="15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Административно-территориальное устройство и местное самоуправление</a:t>
            </a:r>
            <a:endParaRPr b="1" lang="en-US" sz="3200" spc="-1" strike="noStrike">
              <a:solidFill>
                <a:srgbClr val="ffffb7"/>
              </a:solidFill>
              <a:latin typeface="Arial Black"/>
            </a:endParaRPr>
          </a:p>
        </p:txBody>
      </p:sp>
      <p:sp>
        <p:nvSpPr>
          <p:cNvPr id="15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сновная статья: Административно-территориальное деление Владимирской области</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 2006 года на территории Владимирской области существуют 125 муниципальных образований, в том числе 5 городских округов, 16 муниципальных районов, 26 городских поселений, 80 сельских поселений.</a:t>
            </a:r>
            <a:endParaRPr b="0" lang="en-US" sz="2800" spc="-1" strike="noStrike">
              <a:solidFill>
                <a:srgbClr val="ffffff"/>
              </a:solidFill>
              <a:latin typeface="Arial"/>
            </a:endParaRPr>
          </a:p>
        </p:txBody>
      </p:sp>
      <p:sp>
        <p:nvSpPr>
          <p:cNvPr id="15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8360" y="692280"/>
            <a:ext cx="8207280" cy="525600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ская о́бласть — субъект Российской Федерации, входит в Центральный федеральный округ.</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раничит с Московской, Ярославской, Ивановской, Рязанской и Нижегородской областями</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щадь — 29 000 км².</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селение — 1430,0 тыс. человек (на январь 201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ластной центр — город Владимир, расстояние от Владимира до Москвы — 154 км.</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стояние от МКАД до границы области (М7) — 79 км</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разована — 14 августа 1944 года на территории существовавшей до 14 января 1929 года Владимирской губернии РСФСР (в границах, значительно меньших Владимирской губернии Российской империи).</a:t>
            </a:r>
            <a:endParaRPr b="0" lang="en-US" sz="2400" spc="-1" strike="noStrike">
              <a:solidFill>
                <a:srgbClr val="ffffff"/>
              </a:solidFill>
              <a:latin typeface="Arial"/>
            </a:endParaRPr>
          </a:p>
        </p:txBody>
      </p:sp>
      <p:sp>
        <p:nvSpPr>
          <p:cNvPr id="11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837720" y="549000"/>
            <a:ext cx="8007480" cy="5546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аселённые пункты с количеством жителей выше 10 тысяч</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 состоянию на 1 января 2010 года</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a:t>
            </a:r>
            <a:r>
              <a:rPr b="0" lang="ru-RU" sz="2400" spc="-1" strike="noStrike">
                <a:solidFill>
                  <a:srgbClr val="ffffff"/>
                </a:solidFill>
                <a:latin typeface="Arial"/>
              </a:rPr>
              <a:t>	</a:t>
            </a:r>
            <a:r>
              <a:rPr b="0" lang="ru-RU" sz="2400" spc="-1" strike="noStrike">
                <a:solidFill>
                  <a:srgbClr val="ffffff"/>
                </a:solidFill>
                <a:latin typeface="Arial"/>
              </a:rPr>
              <a:t>    ▲343,7</a:t>
            </a:r>
            <a:r>
              <a:rPr b="0" lang="ru-RU" sz="2400" spc="-1" strike="noStrike">
                <a:solidFill>
                  <a:srgbClr val="ffffff"/>
                </a:solidFill>
                <a:latin typeface="Arial"/>
              </a:rPr>
              <a:t>	</a:t>
            </a:r>
            <a:r>
              <a:rPr b="0" lang="ru-RU" sz="2400" spc="-1" strike="noStrike">
                <a:solidFill>
                  <a:srgbClr val="ffffff"/>
                </a:solidFill>
                <a:latin typeface="Arial"/>
              </a:rPr>
              <a:t>Лакинск</a:t>
            </a:r>
            <a:r>
              <a:rPr b="0" lang="ru-RU" sz="2400" spc="-1" strike="noStrike">
                <a:solidFill>
                  <a:srgbClr val="ffffff"/>
                </a:solidFill>
                <a:latin typeface="Arial"/>
              </a:rPr>
              <a:t>	</a:t>
            </a:r>
            <a:r>
              <a:rPr b="0" lang="ru-RU" sz="2400" spc="-1" strike="noStrike">
                <a:solidFill>
                  <a:srgbClr val="ffffff"/>
                </a:solidFill>
                <a:latin typeface="Arial"/>
              </a:rPr>
              <a:t>▼15,7</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вров</a:t>
            </a:r>
            <a:r>
              <a:rPr b="0" lang="ru-RU" sz="2400" spc="-1" strike="noStrike">
                <a:solidFill>
                  <a:srgbClr val="ffffff"/>
                </a:solidFill>
                <a:latin typeface="Arial"/>
              </a:rPr>
              <a:t>	</a:t>
            </a:r>
            <a:r>
              <a:rPr b="0" lang="ru-RU" sz="2400" spc="-1" strike="noStrike">
                <a:solidFill>
                  <a:srgbClr val="ffffff"/>
                </a:solidFill>
                <a:latin typeface="Arial"/>
              </a:rPr>
              <a:t>    ▼148,1</a:t>
            </a:r>
            <a:r>
              <a:rPr b="0" lang="ru-RU" sz="2400" spc="-1" strike="noStrike">
                <a:solidFill>
                  <a:srgbClr val="ffffff"/>
                </a:solidFill>
                <a:latin typeface="Arial"/>
              </a:rPr>
              <a:t>	</a:t>
            </a:r>
            <a:r>
              <a:rPr b="0" lang="ru-RU" sz="2400" spc="-1" strike="noStrike">
                <a:solidFill>
                  <a:srgbClr val="ffffff"/>
                </a:solidFill>
                <a:latin typeface="Arial"/>
              </a:rPr>
              <a:t>Покров</a:t>
            </a:r>
            <a:r>
              <a:rPr b="0" lang="ru-RU" sz="2400" spc="-1" strike="noStrike">
                <a:solidFill>
                  <a:srgbClr val="ffffff"/>
                </a:solidFill>
                <a:latin typeface="Arial"/>
              </a:rPr>
              <a:t>	</a:t>
            </a:r>
            <a:r>
              <a:rPr b="0" lang="ru-RU" sz="2400" spc="-1" strike="noStrike">
                <a:solidFill>
                  <a:srgbClr val="ffffff"/>
                </a:solidFill>
                <a:latin typeface="Arial"/>
              </a:rPr>
              <a:t>▼15,3</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уром</a:t>
            </a:r>
            <a:r>
              <a:rPr b="0" lang="ru-RU" sz="2400" spc="-1" strike="noStrike">
                <a:solidFill>
                  <a:srgbClr val="ffffff"/>
                </a:solidFill>
                <a:latin typeface="Arial"/>
              </a:rPr>
              <a:t>	</a:t>
            </a:r>
            <a:r>
              <a:rPr b="0" lang="ru-RU" sz="2400" spc="-1" strike="noStrike">
                <a:solidFill>
                  <a:srgbClr val="ffffff"/>
                </a:solidFill>
                <a:latin typeface="Arial"/>
              </a:rPr>
              <a:t>    ▼118,1</a:t>
            </a:r>
            <a:r>
              <a:rPr b="0" lang="ru-RU" sz="2400" spc="-1" strike="noStrike">
                <a:solidFill>
                  <a:srgbClr val="ffffff"/>
                </a:solidFill>
                <a:latin typeface="Arial"/>
              </a:rPr>
              <a:t>	</a:t>
            </a:r>
            <a:r>
              <a:rPr b="0" lang="ru-RU" sz="2400" spc="-1" strike="noStrike">
                <a:solidFill>
                  <a:srgbClr val="ffffff"/>
                </a:solidFill>
                <a:latin typeface="Arial"/>
              </a:rPr>
              <a:t>Карабаново</a:t>
            </a:r>
            <a:r>
              <a:rPr b="0" lang="ru-RU" sz="2400" spc="-1" strike="noStrike">
                <a:solidFill>
                  <a:srgbClr val="ffffff"/>
                </a:solidFill>
                <a:latin typeface="Arial"/>
              </a:rPr>
              <a:t>	</a:t>
            </a:r>
            <a:r>
              <a:rPr b="0" lang="ru-RU" sz="2400" spc="-1" strike="noStrike">
                <a:solidFill>
                  <a:srgbClr val="ffffff"/>
                </a:solidFill>
                <a:latin typeface="Arial"/>
              </a:rPr>
              <a:t>▼15,2</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лександров▼62,8</a:t>
            </a:r>
            <a:r>
              <a:rPr b="0" lang="ru-RU" sz="2400" spc="-1" strike="noStrike">
                <a:solidFill>
                  <a:srgbClr val="ffffff"/>
                </a:solidFill>
                <a:latin typeface="Arial"/>
              </a:rPr>
              <a:t>	</a:t>
            </a:r>
            <a:r>
              <a:rPr b="0" lang="ru-RU" sz="2400" spc="-1" strike="noStrike">
                <a:solidFill>
                  <a:srgbClr val="ffffff"/>
                </a:solidFill>
                <a:latin typeface="Arial"/>
              </a:rPr>
              <a:t>Меленки</a:t>
            </a:r>
            <a:r>
              <a:rPr b="0" lang="ru-RU" sz="2400" spc="-1" strike="noStrike">
                <a:solidFill>
                  <a:srgbClr val="ffffff"/>
                </a:solidFill>
                <a:latin typeface="Arial"/>
              </a:rPr>
              <a:t>	</a:t>
            </a:r>
            <a:r>
              <a:rPr b="0" lang="ru-RU" sz="2400" spc="-1" strike="noStrike">
                <a:solidFill>
                  <a:srgbClr val="ffffff"/>
                </a:solidFill>
                <a:latin typeface="Arial"/>
              </a:rPr>
              <a:t>▼15,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усь-Хруст.   ▼60,7</a:t>
            </a:r>
            <a:r>
              <a:rPr b="0" lang="ru-RU" sz="2400" spc="-1" strike="noStrike">
                <a:solidFill>
                  <a:srgbClr val="ffffff"/>
                </a:solidFill>
                <a:latin typeface="Arial"/>
              </a:rPr>
              <a:t>	</a:t>
            </a:r>
            <a:r>
              <a:rPr b="0" lang="ru-RU" sz="2400" spc="-1" strike="noStrike">
                <a:solidFill>
                  <a:srgbClr val="ffffff"/>
                </a:solidFill>
                <a:latin typeface="Arial"/>
              </a:rPr>
              <a:t>Струнино</a:t>
            </a:r>
            <a:r>
              <a:rPr b="0" lang="ru-RU" sz="2400" spc="-1" strike="noStrike">
                <a:solidFill>
                  <a:srgbClr val="ffffff"/>
                </a:solidFill>
                <a:latin typeface="Arial"/>
              </a:rPr>
              <a:t>	</a:t>
            </a:r>
            <a:r>
              <a:rPr b="0" lang="ru-RU" sz="2400" spc="-1" strike="noStrike">
                <a:solidFill>
                  <a:srgbClr val="ffffff"/>
                </a:solidFill>
                <a:latin typeface="Arial"/>
              </a:rPr>
              <a:t>▼14,9</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льчугино   ▼45,6</a:t>
            </a:r>
            <a:r>
              <a:rPr b="0" lang="ru-RU" sz="2400" spc="-1" strike="noStrike">
                <a:solidFill>
                  <a:srgbClr val="ffffff"/>
                </a:solidFill>
                <a:latin typeface="Arial"/>
              </a:rPr>
              <a:t>	</a:t>
            </a:r>
            <a:r>
              <a:rPr b="0" lang="ru-RU" sz="2400" spc="-1" strike="noStrike">
                <a:solidFill>
                  <a:srgbClr val="ffffff"/>
                </a:solidFill>
                <a:latin typeface="Arial"/>
              </a:rPr>
              <a:t>Петушки</a:t>
            </a:r>
            <a:r>
              <a:rPr b="0" lang="ru-RU" sz="2400" spc="-1" strike="noStrike">
                <a:solidFill>
                  <a:srgbClr val="ffffff"/>
                </a:solidFill>
                <a:latin typeface="Arial"/>
              </a:rPr>
              <a:t>	</a:t>
            </a:r>
            <a:r>
              <a:rPr b="0" lang="ru-RU" sz="2400" spc="-1" strike="noStrike">
                <a:solidFill>
                  <a:srgbClr val="ffffff"/>
                </a:solidFill>
                <a:latin typeface="Arial"/>
              </a:rPr>
              <a:t>▼14,3</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язники</a:t>
            </a:r>
            <a:r>
              <a:rPr b="0" lang="ru-RU" sz="2400" spc="-1" strike="noStrike">
                <a:solidFill>
                  <a:srgbClr val="ffffff"/>
                </a:solidFill>
                <a:latin typeface="Arial"/>
              </a:rPr>
              <a:t>	</a:t>
            </a:r>
            <a:r>
              <a:rPr b="0" lang="ru-RU" sz="2400" spc="-1" strike="noStrike">
                <a:solidFill>
                  <a:srgbClr val="ffffff"/>
                </a:solidFill>
                <a:latin typeface="Arial"/>
              </a:rPr>
              <a:t>     ▲45,2</a:t>
            </a:r>
            <a:r>
              <a:rPr b="0" lang="ru-RU" sz="2400" spc="-1" strike="noStrike">
                <a:solidFill>
                  <a:srgbClr val="ffffff"/>
                </a:solidFill>
                <a:latin typeface="Arial"/>
              </a:rPr>
              <a:t>	</a:t>
            </a:r>
            <a:r>
              <a:rPr b="0" lang="ru-RU" sz="2400" spc="-1" strike="noStrike">
                <a:solidFill>
                  <a:srgbClr val="ffffff"/>
                </a:solidFill>
                <a:latin typeface="Arial"/>
              </a:rPr>
              <a:t>Камешково</a:t>
            </a:r>
            <a:r>
              <a:rPr b="0" lang="ru-RU" sz="2400" spc="-1" strike="noStrike">
                <a:solidFill>
                  <a:srgbClr val="ffffff"/>
                </a:solidFill>
                <a:latin typeface="Arial"/>
              </a:rPr>
              <a:t>	</a:t>
            </a:r>
            <a:r>
              <a:rPr b="0" lang="ru-RU" sz="2400" spc="-1" strike="noStrike">
                <a:solidFill>
                  <a:srgbClr val="ffffff"/>
                </a:solidFill>
                <a:latin typeface="Arial"/>
              </a:rPr>
              <a:t>▼13,6</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иржач</a:t>
            </a:r>
            <a:r>
              <a:rPr b="0" lang="ru-RU" sz="2400" spc="-1" strike="noStrike">
                <a:solidFill>
                  <a:srgbClr val="ffffff"/>
                </a:solidFill>
                <a:latin typeface="Arial"/>
              </a:rPr>
              <a:t>	</a:t>
            </a:r>
            <a:r>
              <a:rPr b="0" lang="ru-RU" sz="2400" spc="-1" strike="noStrike">
                <a:solidFill>
                  <a:srgbClr val="ffffff"/>
                </a:solidFill>
                <a:latin typeface="Arial"/>
              </a:rPr>
              <a:t>     ▼30,4</a:t>
            </a:r>
            <a:r>
              <a:rPr b="0" lang="ru-RU" sz="2400" spc="-1" strike="noStrike">
                <a:solidFill>
                  <a:srgbClr val="ffffff"/>
                </a:solidFill>
                <a:latin typeface="Arial"/>
              </a:rPr>
              <a:t>	</a:t>
            </a:r>
            <a:r>
              <a:rPr b="0" lang="ru-RU" sz="2400" spc="-1" strike="noStrike">
                <a:solidFill>
                  <a:srgbClr val="ffffff"/>
                </a:solidFill>
                <a:latin typeface="Arial"/>
              </a:rPr>
              <a:t>Гороховец</a:t>
            </a:r>
            <a:r>
              <a:rPr b="0" lang="ru-RU" sz="2400" spc="-1" strike="noStrike">
                <a:solidFill>
                  <a:srgbClr val="ffffff"/>
                </a:solidFill>
                <a:latin typeface="Arial"/>
              </a:rPr>
              <a:t>	</a:t>
            </a:r>
            <a:r>
              <a:rPr b="0" lang="ru-RU" sz="2400" spc="-1" strike="noStrike">
                <a:solidFill>
                  <a:srgbClr val="ffffff"/>
                </a:solidFill>
                <a:latin typeface="Arial"/>
              </a:rPr>
              <a:t>▼13,1</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бинка</a:t>
            </a:r>
            <a:r>
              <a:rPr b="0" lang="ru-RU" sz="2400" spc="-1" strike="noStrike">
                <a:solidFill>
                  <a:srgbClr val="ffffff"/>
                </a:solidFill>
                <a:latin typeface="Arial"/>
              </a:rPr>
              <a:t>	</a:t>
            </a:r>
            <a:r>
              <a:rPr b="0" lang="ru-RU" sz="2400" spc="-1" strike="noStrike">
                <a:solidFill>
                  <a:srgbClr val="ffffff"/>
                </a:solidFill>
                <a:latin typeface="Arial"/>
              </a:rPr>
              <a:t>     ▼19,4</a:t>
            </a:r>
            <a:r>
              <a:rPr b="0" lang="ru-RU" sz="2400" spc="-1" strike="noStrike">
                <a:solidFill>
                  <a:srgbClr val="ffffff"/>
                </a:solidFill>
                <a:latin typeface="Arial"/>
              </a:rPr>
              <a:t>	</a:t>
            </a:r>
            <a:r>
              <a:rPr b="0" lang="ru-RU" sz="2400" spc="-1" strike="noStrike">
                <a:solidFill>
                  <a:srgbClr val="ffffff"/>
                </a:solidFill>
                <a:latin typeface="Arial"/>
              </a:rPr>
              <a:t>Судогда</a:t>
            </a:r>
            <a:r>
              <a:rPr b="0" lang="ru-RU" sz="2400" spc="-1" strike="noStrike">
                <a:solidFill>
                  <a:srgbClr val="ffffff"/>
                </a:solidFill>
                <a:latin typeface="Arial"/>
              </a:rPr>
              <a:t>	</a:t>
            </a:r>
            <a:r>
              <a:rPr b="0" lang="ru-RU" sz="2400" spc="-1" strike="noStrike">
                <a:solidFill>
                  <a:srgbClr val="ffffff"/>
                </a:solidFill>
                <a:latin typeface="Arial"/>
              </a:rPr>
              <a:t>▼12,1</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рьев-Пол.   ▼18,9</a:t>
            </a:r>
            <a:r>
              <a:rPr b="0" lang="ru-RU" sz="2400" spc="-1" strike="noStrike">
                <a:solidFill>
                  <a:srgbClr val="ffffff"/>
                </a:solidFill>
                <a:latin typeface="Arial"/>
              </a:rPr>
              <a:t>	</a:t>
            </a:r>
            <a:r>
              <a:rPr b="0" lang="ru-RU" sz="2400" spc="-1" strike="noStrike">
                <a:solidFill>
                  <a:srgbClr val="ffffff"/>
                </a:solidFill>
                <a:latin typeface="Arial"/>
              </a:rPr>
              <a:t>Суздаль</a:t>
            </a:r>
            <a:r>
              <a:rPr b="0" lang="ru-RU" sz="2400" spc="-1" strike="noStrike">
                <a:solidFill>
                  <a:srgbClr val="ffffff"/>
                </a:solidFill>
                <a:latin typeface="Arial"/>
              </a:rPr>
              <a:t>	</a:t>
            </a:r>
            <a:r>
              <a:rPr b="0" lang="ru-RU" sz="2400" spc="-1" strike="noStrike">
                <a:solidFill>
                  <a:srgbClr val="ffffff"/>
                </a:solidFill>
                <a:latin typeface="Arial"/>
              </a:rPr>
              <a:t>▼11,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дужный</a:t>
            </a:r>
            <a:r>
              <a:rPr b="0" lang="ru-RU" sz="2400" spc="-1" strike="noStrike">
                <a:solidFill>
                  <a:srgbClr val="ffffff"/>
                </a:solidFill>
                <a:latin typeface="Arial"/>
              </a:rPr>
              <a:t>	</a:t>
            </a:r>
            <a:r>
              <a:rPr b="0" lang="ru-RU" sz="2400" spc="-1" strike="noStrike">
                <a:solidFill>
                  <a:srgbClr val="ffffff"/>
                </a:solidFill>
                <a:latin typeface="Arial"/>
              </a:rPr>
              <a:t>      ▲18,1</a:t>
            </a:r>
            <a:endParaRPr b="0" lang="en-US" sz="2400" spc="-1" strike="noStrike">
              <a:solidFill>
                <a:srgbClr val="ffffff"/>
              </a:solidFill>
              <a:latin typeface="Arial"/>
            </a:endParaRPr>
          </a:p>
        </p:txBody>
      </p:sp>
      <p:sp>
        <p:nvSpPr>
          <p:cNvPr id="15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220px-Vladimir_oblast_numbered"/>
          <p:cNvPicPr/>
          <p:nvPr/>
        </p:nvPicPr>
        <p:blipFill>
          <a:blip r:embed="rId1"/>
          <a:stretch/>
        </p:blipFill>
        <p:spPr>
          <a:xfrm>
            <a:off x="900000" y="620640"/>
            <a:ext cx="7705800" cy="5569200"/>
          </a:xfrm>
          <a:prstGeom prst="rect">
            <a:avLst/>
          </a:prstGeom>
          <a:ln w="0">
            <a:noFill/>
          </a:ln>
        </p:spPr>
      </p:pic>
      <p:sp>
        <p:nvSpPr>
          <p:cNvPr id="16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Экономика</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аловой региональный продукт: 111,9 млрд руб. (2006)</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РП на душу населения: 76,3 тыс. руб. (2006)</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нтральное место в экономике занимает промышленность, особое влияние на развитие оказывает федеральный транспорт, представленный несколькими крупнейшими магистралями. Федеральное финансирование в балансе регионального бюджета достигает 25 % (2006). Доля сельского хозяйства в ВРП — 9 % (2006) (12 %—2005). Региональным руководством поддерживается развитие экскурсинно-исторического и экологического туризм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материалам сайта prognoz-vrp.narod.ru ВРП Владимирской области за 2007 год составило 146,6 млрд рублей.</a:t>
            </a:r>
            <a:endParaRPr b="0" lang="en-US" sz="2000" spc="-1" strike="noStrike">
              <a:solidFill>
                <a:srgbClr val="ffffff"/>
              </a:solidFill>
              <a:latin typeface="Arial"/>
            </a:endParaRPr>
          </a:p>
        </p:txBody>
      </p:sp>
      <p:sp>
        <p:nvSpPr>
          <p:cNvPr id="16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омышленность</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структуре промышленности основную роль играет машиностроение, создающее до 40 % промышленного продукта, существенное значение играет пищевая промышленность (до 17 % промышленного продукта), электроэнергетика (10 %), стекольная (до 7 %) и лёгкая (около 5 %) промышленности.</a:t>
            </a:r>
            <a:endParaRPr b="0" lang="en-US" sz="2800" spc="-1" strike="noStrike">
              <a:solidFill>
                <a:srgbClr val="ffffff"/>
              </a:solidFill>
              <a:latin typeface="Arial"/>
            </a:endParaRPr>
          </a:p>
        </p:txBody>
      </p:sp>
      <p:sp>
        <p:nvSpPr>
          <p:cNvPr id="16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Машиностроение</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Основные центры машиностроения — Владимир, Ковров, Муром. Значимые предприят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ладимирский тракторный завод, Владимирский электромоторный завод, Электроприбор</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вровский механический завод, Экскаваторный завод «Ковровец», Завод им. Дегтярёв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уромский стрелочный завод, Муромский машиностроительный завод, Муромский тепловозостроительный завод</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льчугинский завод «Электрокабель»</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воды автомобильных комплектующих: Автосвет (Киржач) и ОСВАР (Вязники), «Стакол» (Петушки), Автоприбор (Владимир).</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ороховецкий завод подъёмно-транспортного оборудования</a:t>
            </a:r>
            <a:endParaRPr b="0" lang="en-US" sz="2000" spc="-1" strike="noStrike">
              <a:solidFill>
                <a:srgbClr val="ffffff"/>
              </a:solidFill>
              <a:latin typeface="Arial"/>
            </a:endParaRPr>
          </a:p>
        </p:txBody>
      </p:sp>
      <p:sp>
        <p:nvSpPr>
          <p:cNvPr id="17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ищевая промышленность</a:t>
            </a:r>
            <a:endParaRPr b="1" lang="en-US" sz="4400" spc="-1" strike="noStrike">
              <a:solidFill>
                <a:srgbClr val="ffffb7"/>
              </a:solidFill>
              <a:latin typeface="Arial Black"/>
            </a:endParaRPr>
          </a:p>
        </p:txBody>
      </p:sp>
      <p:sp>
        <p:nvSpPr>
          <p:cNvPr id="17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иболее развита переработка молочной продукции и кондитерское производство</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рупнейшие объединения предприятий — «Молоко» и «Ополье».</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ндитерская фабрика концерна Kraft Foods</a:t>
            </a:r>
            <a:endParaRPr b="0" lang="en-US" sz="3200" spc="-1" strike="noStrike">
              <a:solidFill>
                <a:srgbClr val="ffffff"/>
              </a:solidFill>
              <a:latin typeface="Arial"/>
            </a:endParaRPr>
          </a:p>
        </p:txBody>
      </p:sp>
      <p:sp>
        <p:nvSpPr>
          <p:cNvPr id="17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Энергетика</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5120"/>
            <a:ext cx="8007480" cy="4619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Регион характеризуется существенным дефицитом электроэнергии, потребность на 3/4 покрывается из ОЭС Центра через Владимирские электросети. Крупнейшие объекты — Владимирская ТЭЦ-2 мощностью в 407 МВт, и узловая Владимирская подстанция 750 кВ мощностью 2500 МВА. Интересно, что в начале 1940-х было практически начато строительство двух гидроузлов с ГЭС на Клязьме, остановившееся с началом войны. Действовало несколько миниГЭС на Нерли, у деревни Финеево на Киржаче, множество водяных мельниц.</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отребление энергоресурсов в 1999 году составило:</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родный газ — 2,6 млрд м³</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голь — 323 тыс. т</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фтепродуктов — 647 тыс. т</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порт электроэнергии — 3,9 млрд кВт·ч</a:t>
            </a:r>
            <a:endParaRPr b="0" lang="en-US" sz="2000" spc="-1" strike="noStrike">
              <a:solidFill>
                <a:srgbClr val="ffffff"/>
              </a:solidFill>
              <a:latin typeface="Arial"/>
            </a:endParaRPr>
          </a:p>
        </p:txBody>
      </p:sp>
      <p:sp>
        <p:nvSpPr>
          <p:cNvPr id="17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Стекольная промышленность</a:t>
            </a:r>
            <a:endParaRPr b="1" lang="en-US" sz="4000" spc="-1" strike="noStrike">
              <a:solidFill>
                <a:srgbClr val="ffffb7"/>
              </a:solidFill>
              <a:latin typeface="Arial Black"/>
            </a:endParaRPr>
          </a:p>
        </p:txBody>
      </p:sp>
      <p:sp>
        <p:nvSpPr>
          <p:cNvPr id="178" name="PlaceHolder 2"/>
          <p:cNvSpPr>
            <a:spLocks noGrp="1"/>
          </p:cNvSpPr>
          <p:nvPr>
            <p:ph/>
          </p:nvPr>
        </p:nvSpPr>
        <p:spPr>
          <a:xfrm>
            <a:off x="826560" y="2421000"/>
            <a:ext cx="8007480" cy="231624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усевской хрустальный завод</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О «Символ» — около 60 % российского оконного стекла (г. Курлово)</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АО «Красное Эхо» (посёлок Красное Эхо)</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ОО «РАСКО» (посёлок Анопино)</a:t>
            </a:r>
            <a:endParaRPr b="0" lang="en-US" sz="2400" spc="-1" strike="noStrike">
              <a:solidFill>
                <a:srgbClr val="ffffff"/>
              </a:solidFill>
              <a:latin typeface="Arial"/>
            </a:endParaRPr>
          </a:p>
        </p:txBody>
      </p:sp>
      <p:sp>
        <p:nvSpPr>
          <p:cNvPr id="17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Транспорт</a:t>
            </a:r>
            <a:endParaRPr b="1" lang="en-US" sz="44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anchor="t">
            <a:normAutofit fontScale="93000"/>
          </a:bodyPr>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сновной грузопоток региона проходит по трём из четырёх направлений транссиба, кроме того в регионе часть большого московского ж/д кольца, ветки Александров — Иваново и Камешково — Иваново. Развита и сеть внутренних железных дорог; ветки Ковров — Муром, Владимир — Тума, ответвления на Судогду, Радужный, Уршельский и Фролищи. Крупнейшие локомотивные депо Александров, Владимир и Муром. Оператор ОАО «РЖД».</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а втором месте по объёмам находится трубопроводный транспорт:</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ве нитки нефтепровода Нижний Новгород — Рязань и две нитки Нижний Новгород — Ярославль (суммарно не менее 45 млн т/год), обеспечивающие транзит западно-сибирской и волго-уральской нефти к Московскому, Ярославскому, Рязанскому и Киришскому НПЗ, и к порту Приморск на экспорт. (ОАО АК «Транснефть»)</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азопроводы Нижний Новгород — Центр (КС Муром) и Нижний Новгород — Щёлково с отводами на Иваново и южные районы области, суммарный транзит более 6 млрд м³/год. ОАО «Газпром»</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одуктопровод (МНПП) Кстово — Рязань (не менее 2 млн т/год в основном дизельного топлива) с отводами на Судогду и Вязники. Перекачивающая станция с нефтехранилищами в посёлке Второво, ведётся строительство следующей очереди трубопровода Второво — Приморск (действующая мощность 8,4 млн т. дизельного топлива в год), планируется увеличение ёмкости резервуаров вплоть до 80 тыс. м³, а мощности всего узла до 24,6 млн т/год (проект «Север» ОАО «Транснефть»).</a:t>
            </a:r>
            <a:endParaRPr b="0" lang="en-US" sz="1600" spc="-1" strike="noStrike">
              <a:solidFill>
                <a:srgbClr val="ffffff"/>
              </a:solidFill>
              <a:latin typeface="Arial"/>
            </a:endParaRPr>
          </a:p>
        </p:txBody>
      </p:sp>
      <p:sp>
        <p:nvSpPr>
          <p:cNvPr id="18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837720" y="476280"/>
            <a:ext cx="8007480" cy="5619600"/>
          </a:xfrm>
          <a:prstGeom prst="rect">
            <a:avLst/>
          </a:prstGeom>
          <a:noFill/>
          <a:ln w="0">
            <a:noFill/>
          </a:ln>
        </p:spPr>
        <p:txBody>
          <a:bodyPr anchor="t">
            <a:normAutofit fontScale="97000"/>
          </a:bodyPr>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автомобильных дорог наиболее значима автодорога М7 «Волга» до 10 млн т./год (через Покров, Петушки, Лакинск, Владимир, Вязники и Гороховец), подход от магистрали к Иваново протяжённостью 102 км (через Суздаль), а также незначительный участок автодороги А108, слабо поддерживаемые Р72 Владимир — Муром и Р125 Нижний Новгород — Касимов.</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гистральные линии электропередач: ВЛ 750 кВ Калининская АЭС — Владимирская ПС, 2xВЛ 500 кВ Жигулёвская ГЭС — Москва, ВЛ Костромская ГРЭС — Москва, ВЛ 500 кВ Костромская ГРЭС — Владимирская ПС. Только для внутреннего потребления (не считая транзит) в регион перебрасывается более 4 млрд кВт·ч/год (что эквивалентно около 0,7 млн т/год мазута для типовой электростанции).</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вито грузовое и пассажирское судоходство по Клязьме и особенно Оке, порты Вязники и Муром,Гороховецкий судостроительный завод.</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эропорт местных авиалиний Семязино в 5 км от Владимира (1950 х 42 (асфальтобетон) до 25 тонн и 650 х 70 (грунт)), посадочные площадки в Вязниках, Гороховце, многочисленные военные аэродромы. Над регионом проходит значительная часть воздушных коридоров восточного направления от Москвы.</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ит отметить развитые троллейбусные системы Владимира и Коврова.</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хранено узкоколейное движение, в том числе и пассажирское по Островскому и Бакшеевскому, Мезиновскому и Гусевским болотам Мещёры.</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Географическое положение</a:t>
            </a:r>
            <a:endParaRPr b="1" lang="en-US" sz="4400" spc="-1" strike="noStrike">
              <a:solidFill>
                <a:srgbClr val="ffffb7"/>
              </a:solidFill>
              <a:latin typeface="Arial Black"/>
            </a:endParaRPr>
          </a:p>
        </p:txBody>
      </p:sp>
      <p:sp>
        <p:nvSpPr>
          <p:cNvPr id="112" name="PlaceHolder 2"/>
          <p:cNvSpPr>
            <a:spLocks noGrp="1"/>
          </p:cNvSpPr>
          <p:nvPr>
            <p:ph/>
          </p:nvPr>
        </p:nvSpPr>
        <p:spPr>
          <a:xfrm>
            <a:off x="684360" y="2565360"/>
            <a:ext cx="8007120" cy="210024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ская область расположена в центре Европейской части России на юге Волжско-Окского междуречья, в 80 км на восток от Москвы. Владимирская область протянулась на 170 км с севера на юг и на 280 км — с запада на восток.</a:t>
            </a:r>
            <a:endParaRPr b="0" lang="en-US" sz="2400" spc="-1" strike="noStrike">
              <a:solidFill>
                <a:srgbClr val="ffffff"/>
              </a:solidFill>
              <a:latin typeface="Arial"/>
            </a:endParaRPr>
          </a:p>
        </p:txBody>
      </p:sp>
      <p:sp>
        <p:nvSpPr>
          <p:cNvPr id="11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льское хозяйство</a:t>
            </a:r>
            <a:endParaRPr b="1" lang="en-US" sz="4400" spc="-1" strike="noStrike">
              <a:solidFill>
                <a:srgbClr val="ffffb7"/>
              </a:solidFill>
              <a:latin typeface="Arial Black"/>
            </a:endParaRPr>
          </a:p>
        </p:txBody>
      </p:sp>
      <p:sp>
        <p:nvSpPr>
          <p:cNvPr id="186"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ециализируется на растениеводстве, молочно-мясном скотоводстве и птицеводстве. Ведущая отрасль сельского хозяйства — животноводство молочно-мясного направления. Разводят крупный рогатый скот, свиней, овец, коз. Коневодство (владимирские тяжеловозы). Площадь сельхозугодий — 930,9 тыс. га (32,1 % земельного фонда), в том числе пашня — 66,8 %. Посевные площади составляют 476,5 тыс. га, из которых 58,7 % занимают кормовые культуры, 29 % — зерновые. Из зерновых выращивают пшеницу, рожь, ячмень, овёс. Планируется расширение посевов рапса (для производства рапсового масла), а также специальных сортов картофеля и овощей (для переработки на месте, производства овощных соков). Около 25 специализированных предприятий занимаются выращиванием племенного скота. Несколько рыбных хозяйств (крупнейшее из них «Ворша»), многочисленные пасеки.</a:t>
            </a:r>
            <a:endParaRPr b="0" lang="en-US" sz="2000" spc="-1" strike="noStrike">
              <a:solidFill>
                <a:srgbClr val="ffffff"/>
              </a:solidFill>
              <a:latin typeface="Arial"/>
            </a:endParaRPr>
          </a:p>
        </p:txBody>
      </p:sp>
      <p:sp>
        <p:nvSpPr>
          <p:cNvPr id="18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ука, образование и культура</a:t>
            </a:r>
            <a:endParaRPr b="1" lang="en-US" sz="4400" spc="-1" strike="noStrike">
              <a:solidFill>
                <a:srgbClr val="ffffb7"/>
              </a:solidFill>
              <a:latin typeface="Arial Black"/>
            </a:endParaRPr>
          </a:p>
        </p:txBody>
      </p:sp>
      <p:sp>
        <p:nvSpPr>
          <p:cNvPr id="189" name="PlaceHolder 2"/>
          <p:cNvSpPr>
            <a:spLocks noGrp="1"/>
          </p:cNvSpPr>
          <p:nvPr>
            <p:ph/>
          </p:nvPr>
        </p:nvSpPr>
        <p:spPr>
          <a:xfrm>
            <a:off x="837720" y="1905120"/>
            <a:ext cx="8007480" cy="4548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учными исследованиями в области занимаются более 30 организаций. Среди них:</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ИКТИ тракторных и комбайновых двигателе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ОО «НИИ Стекл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КиПТИ органических удобрений и торф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защиты животных</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синтеза минерального сырь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ветеринарной вирусологии и микробиологии (Вольгински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АО «НИПКиТИ электромашиностроен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НИИ лазерный центр РФ «Радуга» (ЗАТО Радужны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Сигнал»</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АО НИПТИ «Микрон»</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П «Владимирский НИИ сельского хозяйства»</a:t>
            </a:r>
            <a:endParaRPr b="0" lang="en-US" sz="2000" spc="-1" strike="noStrike">
              <a:solidFill>
                <a:srgbClr val="ffffff"/>
              </a:solidFill>
              <a:latin typeface="Arial"/>
            </a:endParaRPr>
          </a:p>
        </p:txBody>
      </p:sp>
      <p:sp>
        <p:nvSpPr>
          <p:cNvPr id="19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755280" y="475920"/>
            <a:ext cx="8007480" cy="57625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рупнейшие представители системы образован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государственный университ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государственный гуманитарный университ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вровская государственная технологическая академ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юридический институт Министерства юстиц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регионе действуют исправительно-образовательные и трудовые учреждения, в том числе несколько подростковых и юношеских.</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бластной драматический театр, Кукольный театр, Владимирская филармония, Областная научная библиотека, современные кинотеатры «Киномакс-Буревестник» (Владимир), «Сатурн» (Александров) и «Октябрь» (Муром), ежегодный фестиваль анимационного кино (Суздал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художественных промыслов развиты вышивка, ювелирное дело, лаковая миниатюра (посёлок Мстёр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сновная исповедуемая религия — православное христианство имеет глубокие исторические корни. Здесь множество действующих монастырей, храмов и часовен со значительными приходами, основная регулирующая структура — Русская православная церков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ая область является одним из 15 регионов, в которых с 1 сентября 2006 года был введён в качестве регионального компонента образования предмет Основы православной культуры.</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89000"/>
            <a:ext cx="838512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Рекреация, спорт</a:t>
            </a:r>
            <a:endParaRPr b="1" lang="en-US" sz="4000" spc="-1" strike="noStrike">
              <a:solidFill>
                <a:srgbClr val="ffffb7"/>
              </a:solidFill>
              <a:latin typeface="Arial Black"/>
            </a:endParaRPr>
          </a:p>
        </p:txBody>
      </p:sp>
      <p:sp>
        <p:nvSpPr>
          <p:cNvPr id="194" name="PlaceHolder 2"/>
          <p:cNvSpPr>
            <a:spLocks noGrp="1"/>
          </p:cNvSpPr>
          <p:nvPr>
            <p:ph/>
          </p:nvPr>
        </p:nvSpPr>
        <p:spPr>
          <a:xfrm>
            <a:off x="826560" y="1484280"/>
            <a:ext cx="8007480" cy="4764240"/>
          </a:xfrm>
          <a:prstGeom prst="rect">
            <a:avLst/>
          </a:prstGeom>
          <a:noFill/>
          <a:ln w="0">
            <a:noFill/>
          </a:ln>
        </p:spPr>
        <p:txBody>
          <a:bodyPr anchor="t">
            <a:normAutofit fontScale="96000"/>
          </a:bodyPr>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ласть знаменита сохранившимися древними русскими городами Александров, Владимир, Гороховец, Кидекша, Муром, Юрьев-Польский, Гусь-Хрустальный, их архитектурно-историческими, культурными и религиозными памятниками, местом православного паломничества — городом Суздаль (Александровский, Покровский, Спасо-Евфимиев, и Ризоположенский монастыри), уникальным архитектурно-ландшафтным памятником — Церковью Покрова на Нерли в Боголюбово. По области проходит основная часть маршрутов знаменитого Золотого кольца России. Часто посещаемым туристами местом стала историческая тюрьма «Владимирский централ».</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рупнейший природоохранный объект, национальный парк Мещёра — популярное место туризма и отдыха (байдарочные, лыжные, пешие и велопоходы, охота, рыбалка, отдых у воды, сбор грибов и ягод), туристические базы. Не менее популярны среди байдарочников реки северо-запада области (Киржач, Пекша, Колокша). Благодаря своей отдалённости и доступности популярны озёра парка «Кшара», развито туристическое и спортивное судоходство по Оке и Клязьме.</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ноуборд-центр в селе Сновицы Суздальского района, горнолыжный спуск «Пужалова гора» в Гороховце, парашютный спорт на аэродромах Киржача, Александрова и Семязино, развит пейнтбол, картинг, в Коврове развит мотоциклетный спорт, автотриал в болотах области, дайвинг в глубоких озёрах Балахнинской низины, Футбольные клубы «Торпедо-Владимир» и «Локомотив» (Муром). Стадион «Торпедо» вместимостью 19000 человек (г. Владимир).</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азвиваются дачные и садовые участки вблизи крупных городов и особенно приближённые к Москве территории на западе области.</a:t>
            </a:r>
            <a:endParaRPr b="0" lang="en-US" sz="1600" spc="-1" strike="noStrike">
              <a:solidFill>
                <a:srgbClr val="ffffff"/>
              </a:solidFill>
              <a:latin typeface="Arial"/>
            </a:endParaRPr>
          </a:p>
        </p:txBody>
      </p:sp>
      <p:sp>
        <p:nvSpPr>
          <p:cNvPr id="19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бластная власть</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убернатор области — Виноградов Николай Владимирович.</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8 февраля 2005 Николай Виноградов утверждён владимирским законодательным собранием на посту главы области по представлению президента.</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ставители области в Совете Федерац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адим Густов (Единая Россия) — представитель администрации Владимирской области, впервые был назначен в феврале 2001, назначение вновь подтверждено 12 апреля 2005</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авенков, Александр Николаевич (Единая Россия) — представитель ЗС Владимирской области, избран в марте 2009 года</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боры в областной парламент прошли 1 марта 2009.</a:t>
            </a:r>
            <a:endParaRPr b="0" lang="en-US" sz="1800" spc="-1" strike="noStrike">
              <a:solidFill>
                <a:srgbClr val="ffffff"/>
              </a:solidFill>
              <a:latin typeface="Arial"/>
            </a:endParaRPr>
          </a:p>
        </p:txBody>
      </p:sp>
      <p:sp>
        <p:nvSpPr>
          <p:cNvPr id="19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Известные люди</a:t>
            </a:r>
            <a:endParaRPr b="1" lang="en-US" sz="4400" spc="-1" strike="noStrike">
              <a:solidFill>
                <a:srgbClr val="ffffb7"/>
              </a:solidFill>
              <a:latin typeface="Arial Black"/>
            </a:endParaRPr>
          </a:p>
        </p:txBody>
      </p:sp>
      <p:sp>
        <p:nvSpPr>
          <p:cNvPr id="20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области родилис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ов, Юрий Кузьмич (р.1942)- артист балета, народный артист СССР (1987)</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ворыкин, Владимир Козьмич (1888—1982) — изобретатель современного телевиден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нстантинов, Пётр Александрович (1899—1973) — актёр театра и кино, народный артист СССР (1966)</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азарев, Михаил Петрович (1788—1851) — русский флотоводец и мореплаватель, адмирал, первооткрыватель Антарктиды</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летов, Николай Григорьевич (1834—1912) — русский генерал, глава болгарского ополчения во время русско-турецкой войны 1877-1878 гг.</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летов, Александр Григорьевич (1839—1896) — русский физик, профессор, исследователь фотоэффект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маков, Павел Васильевич (1885—1982) — советский учёный в области телевидения и электроники</a:t>
            </a:r>
            <a:endParaRPr b="0" lang="en-US" sz="1800" spc="-1" strike="noStrike">
              <a:solidFill>
                <a:srgbClr val="ffffff"/>
              </a:solidFill>
              <a:latin typeface="Arial"/>
            </a:endParaRPr>
          </a:p>
        </p:txBody>
      </p:sp>
      <p:sp>
        <p:nvSpPr>
          <p:cNvPr id="20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04280"/>
            <a:ext cx="8385120" cy="127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b7"/>
                </a:solidFill>
                <a:latin typeface="Arial Black"/>
              </a:rPr>
              <a:t>Работу выполнил ученик 11 кл. Постников Денис</a:t>
            </a:r>
            <a:endParaRPr b="1" lang="en-US" sz="2000" spc="-1" strike="noStrike">
              <a:solidFill>
                <a:srgbClr val="ffffb7"/>
              </a:solidFill>
              <a:latin typeface="Arial Black"/>
            </a:endParaRPr>
          </a:p>
        </p:txBody>
      </p:sp>
      <p:pic>
        <p:nvPicPr>
          <p:cNvPr id="203" name="Объект 3" descr=""/>
          <p:cNvPicPr/>
          <p:nvPr/>
        </p:nvPicPr>
        <p:blipFill>
          <a:blip r:embed="rId1"/>
          <a:stretch/>
        </p:blipFill>
        <p:spPr>
          <a:xfrm>
            <a:off x="1677960" y="1905120"/>
            <a:ext cx="6327720" cy="4190760"/>
          </a:xfrm>
          <a:prstGeom prst="rect">
            <a:avLst/>
          </a:prstGeom>
          <a:ln w="0">
            <a:noFill/>
          </a:ln>
        </p:spPr>
      </p:pic>
      <p:sp>
        <p:nvSpPr>
          <p:cNvPr id="204" name="Місце для нижнього колонтитула 2"/>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507520" cy="145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Arial Black"/>
              </a:rPr>
              <a:t>Рельеф, геологическое строение и полезные ископаемые</a:t>
            </a:r>
            <a:endParaRPr b="1" lang="en-US" sz="3600" spc="-1" strike="noStrike">
              <a:solidFill>
                <a:srgbClr val="ffffb7"/>
              </a:solidFill>
              <a:latin typeface="Arial Black"/>
            </a:endParaRPr>
          </a:p>
        </p:txBody>
      </p:sp>
      <p:sp>
        <p:nvSpPr>
          <p:cNvPr id="115" name="PlaceHolder 2"/>
          <p:cNvSpPr>
            <a:spLocks noGrp="1"/>
          </p:cNvSpPr>
          <p:nvPr>
            <p:ph/>
          </p:nvPr>
        </p:nvSpPr>
        <p:spPr>
          <a:xfrm>
            <a:off x="837720" y="2133720"/>
            <a:ext cx="8007480" cy="3962160"/>
          </a:xfrm>
          <a:prstGeom prst="rect">
            <a:avLst/>
          </a:prstGeom>
          <a:noFill/>
          <a:ln w="0">
            <a:noFill/>
          </a:ln>
        </p:spPr>
        <p:txBody>
          <a:bodyPr anchor="t">
            <a:normAutofit fontScale="94000"/>
          </a:bodyPr>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ерритория находится в центре Восточно-Европейской равнины, основная часть территории — слабо всхолмлённая равнина с общим понижением от Клинско-Дмитровской гряды (высоты до 271 м) на севере, через Владимирское (Юрьево) Ополье (высота до 236 м), далее на юг к Мещёрской низменности (преобладающая высота 120 м) и на восток через Окско-Цнинский вал (до 184 м) и Гороховецкий отрог (верхняя точка — 191 м) к Балахнинской низменности (около 90 м) и устью Клязьмы (67 м). Благодаря резким склонам возвышенностей регион обладает рекреационными (зимние виды спорта) ресурсами и гидроаккумуляционными возможностями.</a:t>
            </a:r>
            <a:endParaRPr b="0" lang="en-US" sz="2400" spc="-1" strike="noStrike">
              <a:solidFill>
                <a:srgbClr val="ffffff"/>
              </a:solidFill>
              <a:latin typeface="Arial"/>
            </a:endParaRPr>
          </a:p>
        </p:txBody>
      </p:sp>
      <p:sp>
        <p:nvSpPr>
          <p:cNvPr id="11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837720" y="333000"/>
            <a:ext cx="8007480" cy="5762520"/>
          </a:xfrm>
          <a:prstGeom prst="rect">
            <a:avLst/>
          </a:prstGeom>
          <a:noFill/>
          <a:ln w="0">
            <a:noFill/>
          </a:ln>
        </p:spPr>
        <p:txBody>
          <a:bodyPr anchor="t">
            <a:normAutofit fontScale="96000"/>
          </a:bodyPr>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сновными минеральными ресурсами области являются известняки, торф, строительные пески камни, огнеупорные и кирпичные глины. Запасы торфа в размере 59 млн тонн, основная их часть залегает в пределах Мещёрской низменности. Общие залежи известняков составляют 30 млн тонн и расположены в районе Окско-Цнинского вала, где их толщи достигают 130 метров (Ковровский, Вязниковский, Судогодский, Селивановский районы).</a:t>
            </a:r>
            <a:endParaRPr b="0" lang="en-US" sz="2300" spc="-1" strike="noStrike">
              <a:solidFill>
                <a:srgbClr val="ffffff"/>
              </a:solidFill>
              <a:latin typeface="Arial"/>
            </a:endParaRPr>
          </a:p>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Кварцевые пески — чистые, мелкие, почти без примесей глинистых частиц ледникового происхождения имеют федеральное значение, в больших количествах залегают в южных районах области (Гусь-Хрустальный и Меленковский районы). Используются пески для производства стекла и хрусталя. Также в области имеются фосфориты, железная руда, есть небольшие залежи гипса, флюсовых материалов и металлургических доломитов местного значения.</a:t>
            </a:r>
            <a:endParaRPr b="0" lang="en-US" sz="2300" spc="-1" strike="noStrike">
              <a:solidFill>
                <a:srgbClr val="ffffff"/>
              </a:solidFill>
              <a:latin typeface="Arial"/>
            </a:endParaRPr>
          </a:p>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На территории области встречаются естественные источники минеральных вод.</a:t>
            </a:r>
            <a:endParaRPr b="0" lang="en-US" sz="2300" spc="-1" strike="noStrike">
              <a:solidFill>
                <a:srgbClr val="ffffff"/>
              </a:solidFill>
              <a:latin typeface="Arial"/>
            </a:endParaRPr>
          </a:p>
          <a:p>
            <a:pPr marL="329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11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Климат</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лимат области умеренно континентальный, продолжительность периода со среднесуточной температурой ниже 0 °C — 137 дней, среднегодовая температура 5 °C (стандартное отклонение 12 °C), средняя температура января −13 °C, июля +19 °C, средняя толщина снежного покрова 40 мм (лежит в среднем 144 дня). Среднегодовое количество осадков 420—740 мм, продолжительность вегетационного периода 160—180 дней.</a:t>
            </a:r>
            <a:endParaRPr b="0" lang="en-US" sz="2400" spc="-1" strike="noStrike">
              <a:solidFill>
                <a:srgbClr val="ffffff"/>
              </a:solidFill>
              <a:latin typeface="Arial"/>
            </a:endParaRPr>
          </a:p>
        </p:txBody>
      </p:sp>
      <p:sp>
        <p:nvSpPr>
          <p:cNvPr id="12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Гидрография</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anchor="t">
            <a:normAutofit fontScale="95000"/>
          </a:bodyPr>
          <a:p>
            <a:pPr marL="325800" indent="-3258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щая гладь поверхностных вод составляет 32,9 тыс. га.</a:t>
            </a: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новные реки области Клязьма и Ока. По территории области протекают сотни больших и малых рек, общей протяжённостью более 8,6 тыс. км (их количество вместе с ручьями доходит до 560). Клязьма впадает в Оку на юго-восточной окраине по границе с Нижегородской областью. Крупнейшие притоки Клязьмы: Шерна (с притоком Молокча), Киржач (с притоками Большой и Малый Киржач), Пекша, Колокша, Нерль, Судогда, Уводь, Лух, Суворощь, притоки Оки: Гусь, Унжа и Ушна, близ Александрова берёт начало приток Волги река Дубна.</a:t>
            </a:r>
            <a:endParaRPr b="0" lang="en-US" sz="2400" spc="-1" strike="noStrike">
              <a:solidFill>
                <a:srgbClr val="ffffff"/>
              </a:solidFill>
              <a:latin typeface="Arial"/>
            </a:endParaRPr>
          </a:p>
        </p:txBody>
      </p:sp>
      <p:sp>
        <p:nvSpPr>
          <p:cNvPr id="12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37720" y="333000"/>
            <a:ext cx="8007480" cy="5762520"/>
          </a:xfrm>
          <a:prstGeom prst="rect">
            <a:avLst/>
          </a:prstGeom>
          <a:noFill/>
          <a:ln w="0">
            <a:noFill/>
          </a:ln>
        </p:spPr>
        <p:txBody>
          <a:bodyPr anchor="t">
            <a:normAutofit fontScale="97000"/>
          </a:bodyPr>
          <a:p>
            <a:pPr marL="332640" indent="-3326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Насчитывается около 300 озёр общей площадью в пять тысяч гектар. Большинство из них мелкие, бессточные, многие зарастают торфяным слоем. Происхождение озёр различно. Многочисленные озёра-старицы разбросаны по долинам рек. Самые крупные из них — Урвановское (длиной 12 км) и Виша (длиной около 10 км). В Мещёрской низменности и на северо-западе области встречаются озёра древних аллювиальных долин: Исихры, Святое и др. Озёра карстового происхождения, расположенные в низовьях Клязьмы и в центре округа Вязники (северо-восток области), имеют сильно минерализованную воду и связаны с собой подземными водотоками. Наиболее крупное и глубокое из них — озеро Кшара. В округе Александров и Юрьев-Польском районе встречаются озёра ледникового происхождения небольших размеров.</a:t>
            </a:r>
            <a:endParaRPr b="0" lang="en-US" sz="2300" spc="-1" strike="noStrike">
              <a:solidFill>
                <a:srgbClr val="ffffff"/>
              </a:solidFill>
              <a:latin typeface="Arial"/>
            </a:endParaRPr>
          </a:p>
          <a:p>
            <a:pPr marL="332640" indent="-3326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сновные массивы болот региона (общая их площадь составляет 37,4 тыс. га) встречаются в Мещёрской и Балахнинской (северо—восток области) низменностях.</a:t>
            </a:r>
            <a:endParaRPr b="0" lang="en-US" sz="2300" spc="-1" strike="noStrike">
              <a:solidFill>
                <a:srgbClr val="ffffff"/>
              </a:solidFill>
              <a:latin typeface="Arial"/>
            </a:endParaRPr>
          </a:p>
          <a:p>
            <a:pPr marL="3326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12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очвы</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anchor="t">
            <a:normAutofit fontScale="95000"/>
          </a:bodyPr>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регионе наравне встречаются:</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лодородные тёмноцветные карбонатные и серые лесные — связанные с широколиственными лесами в ополье, занимают 417,5 тыс. га или 14,3 % общей площади (Суздальский и Юрьев-Польский районы, части Александровского, Кольчугинского и Собинского районов)</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рновые аллювиальные (пойменные) почвы по берегам Оки и Клязьмы.</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рново-подзолистые почвы, сформировавшиеся под хвойными и смешанными лесами </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реднесуглинистого типа (Вязниковский, Муромский, частично Ковровский, Камешковский, Гороховецкий, Селивановский, Собинский, Киржачский, Александровский районы)</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упесчаного и песчаного типов (Гусь-Хрустальный, Меленковский, Петушинский, Судогодский районы, южные части Киржачского, Собинского, Муромского и Селивановского районов)</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дзолисто-болотные и болотные в пределах мещёрской низменности и гороховецких болот</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тмечается недостаточная обеспеченность почв бором и серой, 85—98 % почв относятся к категории низкообеспеченных цинком.</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градация земель наиболее распространена в виде водной эрозии — около 175 тыс. га эродированных земель и около 700 тыс. га — эрозионноопасных.</a:t>
            </a:r>
            <a:endParaRPr b="0" lang="en-US" sz="1600" spc="-1" strike="noStrike">
              <a:solidFill>
                <a:srgbClr val="ffffff"/>
              </a:solidFill>
              <a:latin typeface="Arial"/>
            </a:endParaRPr>
          </a:p>
        </p:txBody>
      </p:sp>
      <p:sp>
        <p:nvSpPr>
          <p:cNvPr id="12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3T18:06:42Z</dcterms:created>
  <dc:creator>Uzer</dc:creator>
  <dc:description/>
  <dc:language>en-US</dc:language>
  <cp:lastModifiedBy>LEGION</cp:lastModifiedBy>
  <dcterms:modified xsi:type="dcterms:W3CDTF">2014-12-30T12:10:27Z</dcterms:modified>
  <cp:revision>6</cp:revision>
  <dc:subject/>
  <dc:title>Владимирская область</dc:title>
</cp:coreProperties>
</file>